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901E-C44A-42FA-B1E4-942C4DBB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94B2-FFDC-4B58-997B-9924B8A8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0B6-AC7D-4AD2-90F5-F2D5E154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7A8-BECC-403C-B820-2981D202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97EE-A970-4100-9530-8A9607E4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860-3E8A-430D-80E4-5E43BF27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011-D1BC-4853-BDC3-721AD425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DF56-EB03-4F8D-A11F-334C20FD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2A0-6AC6-4C04-921A-2A85B92A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8E7-08C1-464D-9EDE-E6F8F3AE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0E8-A8C1-44CA-BF86-2BD129E3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7F8-D5B3-4071-8559-7161992F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3C6E-E7AA-4789-8FCB-6F0A52480FB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ιερευνητική διδασκαλία και μάθηση στα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Μαθηματικ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κοπός της μαθηματικής εκπαίδευσης στην Προσχολική Εκπαίδευση, είνα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Να υποβοηθήσει τα παιδιά μέσα από βιωματικές καταστάσεις να επεκτείνουν τις πρώτες μαθηματικές γνώσεις τους και να εφαρμόζουν οικείες μαθηματικές δομές σε νέες καταστάσει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(ΔΕΠΠΣ, 2001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γενικό πλαίσιο που περιγράφεται προηγούμενα δίνει μια ευρύτητα στη δυνατότητα της διδακτικής μας παρέμβασης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αραδείγματα αναπαράστασης ποσοτήτων</a:t>
            </a:r>
            <a:br>
              <a:rPr sz="2800"/>
            </a:b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(Ι). Αναπαράσταση ποσοτήτων-Πράξει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2876400"/>
            <a:ext cx="8704440" cy="39816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250920" y="1447920"/>
            <a:ext cx="88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ποσότητες αναπαριστώνται με ποικίλους τρόπους. Για παράδειγμα: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Αυτοκόλλη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Σημειώσ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ριθμητικά σύμβολα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Ιδιότητες των σχημάτων.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νάπτυξη επιχειρηματολογία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ικανότητα ανάπτυξης της αιτιολόγησης υποβοηθείται από τη διατύπωση κατάλληλων ερωτημάτων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i="1" lang="el-GR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 Παράδειγμα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οια από τα παρακάτω σχήματα μοιάζουν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τί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619280" y="3429000"/>
            <a:ext cx="65530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l-GR" sz="2800" spc="-1" strike="noStrike" baseline="30000">
                <a:solidFill>
                  <a:srgbClr val="000000"/>
                </a:solidFill>
                <a:latin typeface="Arial"/>
              </a:rPr>
              <a:t>ο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 Παράδειγμα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ναζήτηση επιπέδων σχημάτων που μοιάζουν με το σχήμα στόχο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rcRect l="0" t="0" r="0" b="52182"/>
          <a:stretch/>
        </p:blipFill>
        <p:spPr>
          <a:xfrm>
            <a:off x="539640" y="2492280"/>
            <a:ext cx="799308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l-GR" sz="2800" spc="-1" strike="noStrike" baseline="30000">
                <a:solidFill>
                  <a:srgbClr val="000000"/>
                </a:solidFill>
                <a:latin typeface="Arial"/>
              </a:rPr>
              <a:t>ο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 Παράδειγμα: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Ταξινομήσεις Στερεών Σχημάτω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258920" y="1025640"/>
            <a:ext cx="6913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Μετρήσεις</a:t>
            </a:r>
            <a:br>
              <a:rPr sz="2800"/>
            </a:b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(Ι) Μέτρηση μήκου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8785440" cy="36432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611280" y="134136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α παιδιά διερευνούν τρόπους για τη σύγκριση αποστάσεων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ακαλύπτουν δικά τους μέτρα μέτρηση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-1000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Επικάλυψη με τη μονάδα μέτρηση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7488000" cy="2724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DSC01045"/>
          <p:cNvPicPr/>
          <p:nvPr/>
        </p:nvPicPr>
        <p:blipFill>
          <a:blip r:embed="rId2"/>
          <a:stretch/>
        </p:blipFill>
        <p:spPr>
          <a:xfrm>
            <a:off x="1835280" y="4842000"/>
            <a:ext cx="5329080" cy="2016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0" y="765000"/>
            <a:ext cx="9144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ρησιμοποιείται μια ποικιλία μέτρων και τρόπων μέτρησης: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πολλές ‘πατούσες’ επικαλύπτεται η απόσταση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ρησιμοποιείται επαναληπτικά μια πατούσα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ρησιμοποιούνται μαρκαδόροι κ.λ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(ΙΙ). Μέτρηση της χωρητικότητας δοχείω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DSC00881"/>
          <p:cNvPicPr/>
          <p:nvPr/>
        </p:nvPicPr>
        <p:blipFill>
          <a:blip r:embed="rId1"/>
          <a:srcRect l="0" t="17368" r="0" b="2318"/>
          <a:stretch/>
        </p:blipFill>
        <p:spPr>
          <a:xfrm>
            <a:off x="1476360" y="2781360"/>
            <a:ext cx="6033960" cy="37735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539640" y="162864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ε μια ατμόσφαιρα που μοιάζει με εργαστήριο, οι μαθητές ερευνούν και συγκρίνουν τη χωρητικότητα δοχείων με «ρευστές» ποσότητες (ρύζι, φακές, πορτοκαλάδα κ.λ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Ο θεμελιώδης ρόλος της/του εκπαιδευτικο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7640" y="907560"/>
            <a:ext cx="8785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άθε νέα διδακτική πρόταση που στοχεύει στη βελτίωση και εξέλιξη της εκπαιδευτικής πραγματικότητας, οφείλει πρώτιστα να δίνει πρωταγωνιστικό ρόλο στην/στον εκπαιδευτικό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αντίληψη αυτή μας απομακρύνει από μια τεχνοκρατική αντίληψη, σύμφωνα με την οποία, όλα καθορίζονται από την κορυφή της εκπαιδευτικής πυραμίδας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τί τελικά είναι οι Νηπιαγωγοί αυτές/οί που θα διερευνήσουν τις συνέπειες των προτεινόμενων αλλαγών και θα ανακαλύψουν πώς να κάνουν τις απαραίτητες προσαρμογές στις καθημερινές εκπαιδευτικές πρακτικέ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Τα παιδιά συναντούν τον κόσμο των μαθηματικώ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ολλές από τις μαθηματικές έννοιες συγκροτούνται και αναπτύσσονται σε ηλικίες πριν την πρώτη σχολική βαθμίδα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α παιδιά έχουν την ικανότητα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να απαριθμούν μικρές ποσότητες αντικειμένων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να διακρίνουν γεωμετρικά σχήματα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να ταξινομούν αντικείμενα ως προς ένα ή δύο χαρακτηριστικά τους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να συγκρίνουν και να μετρούν γεωμετρικά μεγέθ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προσχολική εκπαίδευση επιδιώκει να κάνει συμβατή με τη μαθηματική επιστήμη την άτυπη μαθηματική γνώση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351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Τα νήπια ως ερευνητές των μαθηματικών ιδεώ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85672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η διερευνητική μάθηση η διδασκαλία ενισχύει την </a:t>
            </a:r>
            <a:r>
              <a:rPr b="0" i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αυτενέργεια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των μαθητώ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ην προοπτική αυτή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Ι. </a:t>
            </a:r>
            <a:r>
              <a:rPr b="0" i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Εμπλουτίζεται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με κατάλληλο εκπαιδευτικό υλικό το μαθησιακό περιβάλλο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ΙΙ. </a:t>
            </a:r>
            <a:r>
              <a:rPr b="0" i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Παροτρύνονται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τα παιδιά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στην παρατήρηση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την περιγραφή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στην εμπλοκή τους σε πρακτικές σύγκρισης και μέτρησης μεγεθών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στην επίλυση απλών προβλημάτων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Ενδεικτικά παραδείγματα διερευνητικής μάθησης στα μαθηματικ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Ίσες ποσότητες.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Ο ρόλος του εκπαιδευτικού υλικο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885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DSC07616"/>
          <p:cNvPicPr/>
          <p:nvPr/>
        </p:nvPicPr>
        <p:blipFill>
          <a:blip r:embed="rId1"/>
          <a:srcRect l="2306" t="8305" r="2306" b="3464"/>
          <a:stretch/>
        </p:blipFill>
        <p:spPr>
          <a:xfrm>
            <a:off x="826920" y="2349360"/>
            <a:ext cx="7212240" cy="4430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17928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ρησιμοποιούμε το μοντέλο της ζυγαριάς για να εισάγουνε στην ισοδυναμία ποσοτήτων και σε πράξεις πρόσθεσης και αφαίρεση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85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Ο ρόλος των φυσικών αντικειμένων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7640" y="836280"/>
            <a:ext cx="511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Παράδειγμα: Εύρεση προσθετέων.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Το πρόβλημα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α βρεθούν όλοι οι τρόπ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να τοποθετηθούν 8 μπανάνες σε δύο τσάντες, μια σε κάθε χέρι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ισαγωγικά χρησιμοποιούμε φυσικά αντικείμενα (π.χ. κύβους) και στη συνέχεια άλλες μορφές αναπαράστασης των ποσοτήτων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076720" y="907920"/>
            <a:ext cx="39610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Επίλυση προβλημάτων σε κατάλληλα πλαίσι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915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Παράδειγμα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Υλικά-πλαίσιο ανάπτυξης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τάστημα παιγνιδιών με τις τιμές του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Χαρτονομίσματα (ψεύτικα) των 1-5 ευρώ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Διαδικασία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 παιδί είναι σε ρόλο αγοραστή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 κατάστημα δε διαθέτει ρέστα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DSC00172"/>
          <p:cNvPicPr/>
          <p:nvPr/>
        </p:nvPicPr>
        <p:blipFill>
          <a:blip r:embed="rId1"/>
          <a:srcRect l="0" t="11480" r="0" b="14769"/>
          <a:stretch/>
        </p:blipFill>
        <p:spPr>
          <a:xfrm>
            <a:off x="1523880" y="4038480"/>
            <a:ext cx="5791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Ενδεικτικές διδακτικές καταστάσει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Πρώτη διδακτική κατάσταση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παιδί διαθέτει νομίσματα αξίας 3 και 2 ευρώ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Ποιο παιγνίδι μπορεί να αγοράσει, δίνοντας όλα τα χρήματα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Σημείωση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πρόβλημα είναι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της μορφής: </a:t>
            </a:r>
            <a:r>
              <a:rPr b="0" i="1" lang="el-GR" sz="2800" spc="-1" strike="noStrike" u="sng">
                <a:solidFill>
                  <a:srgbClr val="000000"/>
                </a:solidFill>
                <a:uFillTx/>
                <a:latin typeface="Times New Roman"/>
              </a:rPr>
              <a:t>3+2=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Δεύτερη διδακτική κατάσταση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 παιδί διαθέτει ένα χαρτονόμισμα 3 ευρώ και πρέπει να αγοράσει ένα παιγνίδι 5 ευρώ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Ποιο άλλο χαρτονόμισμα πρέπει να διαλέξει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ημείωση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: Το πρόβλημα είναι της μορφής: </a:t>
            </a:r>
            <a:r>
              <a:rPr b="0" i="1" lang="el-GR" sz="2800" spc="-1" strike="noStrike" u="sng">
                <a:solidFill>
                  <a:srgbClr val="000000"/>
                </a:solidFill>
                <a:uFillTx/>
                <a:latin typeface="Times New Roman"/>
              </a:rPr>
              <a:t>3+?=5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Μορφές αναπαράστασης δεδομένω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142640"/>
            <a:ext cx="8785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(Ι)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αθαίνουν να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αναπαριστούν σχέσεις μεταξύ αντικειμένων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(πραγμάτων, αριθμών, μεταβλητών, κ.λπ.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(ΙΙ). Η χρήση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παρ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στάσεων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βοηθάει στην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αναγν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ώριση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τ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ς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υμβατική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ς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 χρήση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ς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 των συμβόλων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(ΙΙΙ). Τα παιδιά με τις δικές τους αναπαραστάσεις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αθαίνουν να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αναστοχάζονται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πάνω στις ενέργειές τους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)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σχηματοποιήσεις δίνουν τη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δυνατότητα της επικοινωνίας μέσω του μαθηματικού συλλογισμού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18:04:58Z</dcterms:created>
  <dc:creator>user</dc:creator>
  <dc:description/>
  <dc:language>en-US</dc:language>
  <cp:lastModifiedBy>nitse</cp:lastModifiedBy>
  <dcterms:modified xsi:type="dcterms:W3CDTF">2010-06-18T08:21:07Z</dcterms:modified>
  <cp:revision>32</cp:revision>
  <dc:subject/>
  <dc:title>Μορφές διερευνητικής μάθησης στη μαθηματική εκπαίδευση</dc:title>
</cp:coreProperties>
</file>