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25C-D636-44D9-ACEB-0FE5089B49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820-FCFB-43CC-ABFF-6A861160D0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E69-0954-4F2E-8AA3-9DB9264CDC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CC6-3296-486D-9EF5-24819CD8C2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578-08EB-40E8-A3F8-7736EDD907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058-9D36-41C2-8C66-1531B81672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4102-C89A-4247-8791-EC0BBEC351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CB24-4CA8-410F-8B8D-F860DC38D2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A66-2F8C-4742-B1C4-1BF435AEFB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FD9C-7D02-45AA-9846-2332945F9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4C6-D0C1-4108-AEBE-AC4EA15714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6D57-B9D3-4403-840A-9B57050DC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349C-2BAE-44E4-AC65-F8E6CBA4F8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8E6C-60C2-43F2-8B4C-84F5EDC415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E6E-4E8D-446E-84DF-68E6468E6B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11D-6BF7-4C86-B9C3-3721F9F209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091-92DB-47F2-97DC-C1546CC391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ίναι άρρητη πλέον παραδοχή ότι το μελλοντικό σχολείο θα αλλάξει με τη χρήση των τεχνολογιώ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την άποψη αυτή συγκλίνουν οι θέσεις όλων αυτών που σχεδιάζουν εκπαιδευτικές πολιτικές, ακόμα κι αν ξεκινούν από διαφορετικές εντελώς παιδαγωγικές αφετηρίες ή ιδεολογικές παραδοχές. Πως όμως μπορούν οι τεχνολογίες να επηρεάσουν το λεγόμενο ««Σχολείο» του «Μέλλοντος»»; (τα πολλαπλά εισαγωγικά δεν συνιστούν λάθος πληκτρολόγηση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πορούμε εντέλει να προβλέψουμε πως θα είναι το σχολείο αυτό με τις ΤΠ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αλλαγές που πιστεύουμε ότι θα έρθουν στο σχολείο τα επόμενα χρόνια με τις ΤΠΕ είναι ιδεολόγημα ή αδήριτη ανάγκ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Για κάποιους οι ΤΠΕ αποτελούν μια νέα, κατά κανόνα εξατομικευμένη 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εκπαίδευση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για κάποιους άλλους οι ΤΠΕ μπορούν να γίνουν καταλύτης στην προσπάθεια για 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αλλαγές στις διαδικασίες της μάθησης και της διδασκαλία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Η έμφαση τελικά θα δοθεί στη σαφή πλέον τεχνολογική καινοτομία ή στην εν δυνάμει παιδαγωγική καινοτομία των τεχνολογιώ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α προσανατολιστούμε προς τη δημιουργία νέου ψηφιακού περιεχομένου ή προς την αλλαγή των διδακτικών και των μαθησιακών πρακτικώ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B336-2E81-4333-A4A6-5ADD7DBCE1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02F2-ECB4-4EAF-BE81-DE3CEF3E3C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8456-78CE-48FF-A6EC-9BF88890C4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ίναι φανερό ότι το τεχνολογικό τοπίο στις μέρες μας παρέχει πολλαπλά πλαίσια χρήσης της τεχνολογία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όσο εντός όσο και εκτός σχολείο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ε συνεργασία με τον δάσκαλο, δουλεύοντας με άλλους μαθητέ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χρησιμοποιώντας καινοτόμα εκπαιδευτικά λογισμικά καθώς και ποικίλα πλέον τεχνολογικά εργαλεία και εφαρμογέ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564A-87A8-4FFE-AEBF-2854FFF994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πό το σώμα γνώσης που διαθέτουμε σήμερα τεκμαίρεται ότι οι ΤΠΕ μπορούν να χρησιμοποιηθούν σε διάφορες πτυχές της σχολικής ζωή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άλιστα, οι ΤΠΕ έχουν πάρει θέση στο σχολείο σε διάφορους τομείς της εκπαιδευτικής διαδικασία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αράλληλα, οι έρευνες στη Διδακτική των Επιστημών καταδεικνύουν πλέον τις θετικές επιπτώσεις της χρήσης των υπολογιστικών περιβαλλόντων σε πολλαπλές πτυχές της διδακτικής πράξη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το πλαίσιο αυτό διαμορφώνεται ένα ερευνητικό τοπίο που συνηγορεί στην χρήση των ΤΠΕ στη διδασκαλία και τη μάθηση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ΤΠΕ βελτιώνουν την εκθετική διδασκαλία, υποστηρίζουν την ατομική εργασία, ενισχύουν την πειραματική προσέγγιση, ευνοούν τη συνεργασία με τους ομότιμους ή τους μεγαλύτερους, συνιστούν κατάλληλο πλαίσιο για παιγνίδι και μάθηση ήδη από τις πολύ μικρές ηλικίε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τούτοις, στον τομέα που άπτεται της γνωστικής ανάπτυξης των παιδιών, και παρότι τα ερευνητικά δεδομένα δείχνουν ιδιαιτέρως ενθαρρυντικά, οι επιδράσεις που έχουν ασκήσει οι ΤΠΕ 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σε ευρεία κλίμακα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οιάζουν να είναι αμελητέε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290-131F-47FD-847E-CC2E01ED47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F63C-9745-46DD-B548-A4492E6B3D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4C0-0B37-4D81-BC2F-848E656D15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CB6-F9CE-423B-A0A0-BFE6B92C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56D-E1FB-4BB6-AB89-EF14399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8D795-6FD0-4C61-9D17-A452F30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39A2-6C3C-45D5-BB2D-8BD3CBD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95FA5-2743-4003-A310-67CE1A36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1F0D3-B409-4324-9CE4-E81DEDE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82D4-7829-4B4A-9394-AB1C40F5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3250B-7BE2-464C-8E78-52CF398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9E758-2896-4A4E-9B50-CA724A7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DCBD6-5023-4A70-8129-BFF88EF5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0A23-7E00-4971-A3B8-3ADA713F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58EC9-A337-4577-92FB-A6F6A70B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D3E-F996-4F17-A35B-016D88D6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5C594-3FD2-462D-B38F-9DF12A4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96BFB-243C-4557-A01E-D7335C63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7D386-73FD-4FCE-B2C0-7F9B333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CF5E6-05A6-42FE-8E59-0876F754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9A48F-EBE3-405D-9B81-7726FC09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9C0A-647E-49BF-A0D1-65E1030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0CF90-9DA0-4084-9BC1-04924D6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C1A3-CABD-471A-A83F-C82702F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B0EE-45F4-404A-BA10-26E8CBA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A28B5-ED82-48C0-8F92-3B2593D3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B66-F749-4CE5-BF2D-D314457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76F2D-4F5E-4C78-9A10-DC746F0C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EDCF-44E6-4528-AA95-77B43215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880E-C2C3-43EF-B2F5-D9CEBEF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7C71-C581-4E52-A69F-6CA8E7A8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8DC8-1AAE-4626-B878-99B251EB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D1F0-B187-4314-8EC4-8673A3B3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397B3-1D89-4917-81D3-67A2A0B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D5CF-5378-4E9D-A145-C0A3532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DFD6E-2C55-491B-804E-6A7F9AA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C057C-2521-4B18-B4E2-AE4DAB7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370-6AE1-4044-830C-28A9B7EC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A6584-098F-45A3-9A30-2BD160DF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52D3-7B16-4113-818E-37BA28B4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633E8-1157-444E-AE1A-9315FCE2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80D89-A573-4551-905B-18A78BB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2ED50-9FD1-4E33-8262-947A88C3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BBDC9-D73A-46D6-8A27-ECBDBE0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A1CC-0049-443D-9C96-1637775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06796-1426-4E58-A2CA-51C1C2CE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4D823-A553-47AC-8176-BE4FCC3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5CA69-FB31-47F3-930A-ED7A143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5C6-523B-440F-A949-A73C5C1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89DE-3061-4414-9194-0B21701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D3E37-B798-4E80-89D5-519BEED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939E8-ACB2-4E59-8544-8BD2E2E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0446F-F0C5-4499-89E5-E627BF03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1837D-1E8B-4F76-9501-C46D9D45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318DE-7494-4B05-B3B7-547644E7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D33D9-A759-40E2-AA47-D9C8E2FB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99903-6156-4FED-96FA-5563A924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9DE7C-771F-4E38-851E-090689E6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BF700-1ADD-4AAB-839B-BC3B26F0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9B4-76B0-45B8-8C68-432DDCF1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93DE5-EE32-4726-A518-13FD6637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670E7-012F-426C-8B45-A2B7DA1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61576-7E44-4E5A-98D0-EE1FFC3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6A02B-A732-4BB5-8C63-3B050D5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75CC1-2B8C-41D6-9F8D-7A8B2A37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0FB6C-B179-4421-898A-887236CF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F4820-F840-4F28-8F50-F81D52AE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8D49-CF90-43C8-8C48-A785FDE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762-F96F-44EA-AE60-D33F2157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5531-E3CE-429C-B6FD-5A69A83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EE0B-1122-40E9-911D-3564B56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776-E199-4E14-B14C-9FEBB85C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D45D-2729-4273-85AA-DF70727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A21-0125-4C09-BBE4-7B02A1C0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288-A345-4DF3-84A9-354BB70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6A6-91DB-4F75-93DB-8D7E3C3A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067-331F-4F3F-995A-0D99CC01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D9B2-57AD-4918-A0CF-AE4B0F53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61FD-5087-4B8E-B05E-1875C08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1375-F720-472D-AD85-D31F52D7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98A8-C998-4092-A2BE-C74BD09E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1A89-7573-4A67-9E83-6AE47E75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003-4C0B-4733-AC4B-5376156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765D-6776-466C-A6F3-8ECC3A2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8422-ABD6-41F5-9D94-5FBB345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4AA0-BD36-40A2-95CD-117C784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63E4-53EF-4116-9093-E8D534B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3826-6151-4B8D-B05E-D7EB7CF2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E48F-56BF-4468-B5E3-F3176BB9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247F-D014-43DA-843B-0F16BFB6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A50C-2594-489E-A29D-296D50CC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ADAE-B15B-4BEA-91B1-A04F1B2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62EE-4EFF-47D1-BCF2-DF5D614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43B-7B8A-4058-AED6-68F2609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48AA-8D93-4DBF-ACC7-4F319DF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2B51-15C8-4680-83F4-6E2A6D5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BFF9-57DF-41DF-9658-D648EEC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5008-C86C-47F6-93F7-5EB8DC0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3EAD-5004-4FD5-8A89-5F96541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D9E9-3880-4D7E-A4A5-D316EE0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B537-F14F-4D62-AF5D-7C269F73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6702-D4ED-46B1-BC53-0E9E5A34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266A-636E-4274-8A5B-66ABCD99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8A54-E9F2-4497-87D6-12A1AAA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95B-2E09-4EA8-AE66-E58B5C1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C9FA-F202-4E25-A609-5B2F4AC7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8DAD-1089-4CE2-BF3E-36892FF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5D2E-74CF-40ED-9C41-DFD67D1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842B-3EB3-428E-8E19-A433A060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B581-8BB1-44CD-8124-3B98087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60F0-7E8D-46E2-8C85-F0FE777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B26C-CCEC-4438-9E13-3A76238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9951-1D5B-4F85-B321-814D0BC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C1286-F38B-4CD3-9F11-4703D2E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E1D0D-C7F3-4BBF-BA27-4FD32EA3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659-5499-44D6-BCE0-B271323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78EC-0493-432C-8CF2-BF8BD25D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B6A3-55BE-4265-8777-94694F59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51BD-79A0-4778-B665-9978E035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D896-7AB4-4EF4-B7A4-C626E52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2BA6F-88D2-4BF8-B701-98C6B165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621E-71A7-4066-AB78-DDDC0B61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54F5-1C7A-4A2F-ADC8-84FF39F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2527-5E07-4AD3-B13F-BF88349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2E74-BC45-4948-8090-42B56C8E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94C59-CF34-4E52-BFB1-A1628E5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12F-11AA-4BA8-82F1-F25A4C5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0706-C545-4486-A641-7D48C6B4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7E20-8E19-4493-A81F-329FBDC9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0C097-1C30-4895-BC06-7091CA43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88204-5CB4-4551-AC09-FDC9398A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6A77-613F-402C-B2E0-FDC81419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744D-D854-4B20-BC9C-9591BBB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B597-D497-41FA-838E-70889526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41110-2E73-4565-9968-87B601BB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D983F-47EB-4BAC-87A2-0DACDEF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AC8E-5284-436C-8433-B7B64AC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977-68BE-48B2-BBFB-38E6828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5CDC-288B-437A-93B4-93F64D0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C7F4-D987-4122-8512-34094AA2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47CF-F1FF-4642-BC6B-A154D0D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B7D9-60A7-4E2B-B966-445C9545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FA42-6F02-4E94-9335-FBA72C0A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C765-4B44-4D75-85BB-84DBA3B7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FF476-8383-4E41-A8C8-25B06CF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4988D-DA2B-490E-8F5B-BEFF23E3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5F97-1982-411A-A2ED-BAA6253E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2C98-A647-458C-B79D-5F95D3A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68F-2B0B-4E10-BE59-E89E1F0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D7DB-90AA-4838-9DBE-A84CDDD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CBDB-41CB-44CF-AAE4-69500BF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A1F4-36AF-4177-9BBB-C913BF0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7656-79B8-44F5-AB84-F03281E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92DC-EEC8-4E5E-8A7B-767D7FE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6ED2-17D7-48B1-AA7D-282D87A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7E96-D288-4C74-A93B-5C54065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A556D-8B09-4215-A2A3-5B572C01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AE7D6-40B8-438E-A121-B236FC3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85B1-3CD6-425D-91F9-BE7BB93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573-7221-43CF-B353-7C235DC9ED9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aa39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aa393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E22A-DD3E-4CD8-8A79-EA88F0CE5B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2" name="Rectangle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CD8-22A6-4A43-961D-0F71252AD47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9BCC-E420-439E-8B18-4C10C26DC4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0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5C8C-70A5-46B7-857D-428278BF69B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E0B-8B73-4720-B604-18FBDC7E25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060-2500-48D3-B2AE-54F351CE371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338-7A5B-4795-9C4D-49B07BECDF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96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7694-D4C1-4306-BD34-494B1F86424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aa39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aa393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7827-AFF5-44A4-BADF-890ABF3C6325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976-CA0D-49A6-BCBB-1795F572276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840A-F176-463B-BD50-C36B31D361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34F6-24CC-4FAC-B398-052A0B79F5F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275-3201-4D21-9F17-6AF8C9AD8C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8" name="Oval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3E34-56DB-476C-BB88-2E176B61356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3DA4-E4B5-498D-A5F8-D815FB13ED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F780-BCA0-47E5-B05D-EC876BB640F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7E49-85E6-4FB5-8EEB-623A9D85D4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94C-EF67-4EAB-8A05-E86174069A9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D1B-9788-4282-9603-69A0013A55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0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AC2-3708-435B-A0BE-2E972667C23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F9E-EB8C-4D12-84C7-07C5ADF214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49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C95-1745-4823-87E8-5B14C0DC741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2B4-6F18-4414-B3F3-D8D13BA533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99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D2D-78DB-4AAE-A1CC-6AF75B9A0CE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52C-BA57-47AF-8AE9-EADDA18999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4167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l-GR" sz="3600" spc="-1" strike="noStrike">
                <a:solidFill>
                  <a:srgbClr val="572314"/>
                </a:solidFill>
                <a:latin typeface="Corbel"/>
              </a:rPr>
              <a:t>Διερευνητική Διδασκαλία και Μάθηση στις Θετικές Επιστήμες με τη χρήση τεχνολογικών εργαλείων 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115640" y="3357720"/>
            <a:ext cx="764388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20e04"/>
                </a:solidFill>
                <a:latin typeface="Corbel"/>
              </a:rPr>
              <a:t>Βασίλης Κόμης</a:t>
            </a:r>
            <a:r>
              <a:rPr b="1" i="1" lang="en-GB" sz="2400" spc="-1" strike="noStrike">
                <a:solidFill>
                  <a:srgbClr val="320e04"/>
                </a:solidFill>
                <a:latin typeface="Gill Sans MT"/>
              </a:rPr>
              <a:t>, </a:t>
            </a:r>
            <a:r>
              <a:rPr b="1" i="1" lang="el-GR" sz="2400" spc="-1" strike="noStrike">
                <a:solidFill>
                  <a:srgbClr val="320e04"/>
                </a:solidFill>
                <a:latin typeface="Corbel"/>
              </a:rPr>
              <a:t>Αναπληρωτής Καθηγητής</a:t>
            </a:r>
            <a:r>
              <a:rPr b="0" i="1" lang="el-GR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20e04"/>
                </a:solidFill>
                <a:latin typeface="Corbel"/>
              </a:rPr>
              <a:t>Ερευνητική Ομάδα «ΤΠΕ στην Εκπαίδευση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20e04"/>
                </a:solidFill>
                <a:latin typeface="Corbel"/>
              </a:rPr>
              <a:t>Εργαστήριο Διδακτικής Θετικών Επιστημών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20e04"/>
                </a:solidFill>
                <a:latin typeface="Corbel"/>
              </a:rPr>
              <a:t>Τμήμα Επιστημών της Εκπαίδευσης &amp; της Αγωγής στην Προσχολική Ηλικία, Πανεπιστήμιο Πατρών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aa8a14"/>
                </a:solidFill>
                <a:latin typeface="Corbel"/>
              </a:rPr>
              <a:t>komis@upatras.g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a8a14"/>
                </a:solidFill>
                <a:latin typeface="Gill Sans MT"/>
              </a:rPr>
              <a:t>http://www.ecedu.upatras.gr/komis/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aa8a14"/>
                </a:solidFill>
                <a:latin typeface="Corbel"/>
              </a:rPr>
              <a:t>http://www.ecedu.upatras.gr/</a:t>
            </a:r>
            <a:r>
              <a:rPr b="0" lang="en-GB" sz="2000" spc="-1" strike="noStrike">
                <a:solidFill>
                  <a:srgbClr val="aa8a14"/>
                </a:solidFill>
                <a:latin typeface="Gill Sans MT"/>
              </a:rPr>
              <a:t>icte</a:t>
            </a:r>
            <a:r>
              <a:rPr b="0" lang="el-GR" sz="2000" spc="-1" strike="noStrike">
                <a:solidFill>
                  <a:srgbClr val="aa8a14"/>
                </a:solidFill>
                <a:latin typeface="Corbel"/>
              </a:rPr>
              <a:t>/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1"/>
          <a:stretch/>
        </p:blipFill>
        <p:spPr>
          <a:xfrm>
            <a:off x="6804000" y="5300640"/>
            <a:ext cx="171936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8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  <a:ea typeface="Tahoma"/>
              </a:rPr>
              <a:t>Οι ΤΠΕ ως εργαλείο διερεύνησης και ανακάλυψης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4304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Βασική ιδέα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: η γνώση δεν μεταδίδεται αλλά οικοδομείται από τα υποκείμενα που μαθαίνουν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Tahoma"/>
              </a:rPr>
              <a:t>Ο υπολογιστής μπορεί να χρησιμοποιηθεί ως εργαλείο διερεύνησης και ανακάλυψη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Tahoma"/>
              </a:rPr>
              <a:t>Τα παιδιά μαθαίνουν μέσα από την εξερεύνηση και την ανακάλυψη κάτι που προσφέρουν σχετικά εύκολα τα σύγχρονα υπολογιστικά περιβάλλοντ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orbel"/>
                <a:ea typeface="Tahoma"/>
              </a:rPr>
              <a:t>Εποικοδομιστικού τύπου 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τεχνολογικές εφαρμογές και λογισμικά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Δραστηριότητες με ΤΠΕ στην προσχολική εκπαίδευση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56800" y="1484280"/>
            <a:ext cx="8116920" cy="44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Άξονες παιδαγωγικών δραστηριοτήτων για την προσχολική ηλικία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 υπολογιστής ως αντικείμενο μάθηση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 υπολογιστής ως μέσο ψυχαγωγία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 υπολογιστής ως εποπτικό μέσο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orbel"/>
              </a:rPr>
              <a:t>Ο υπολογιστής ως εργαλείο οικοδόμησης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orbel"/>
              </a:rPr>
              <a:t>γνώσεων (μέσω ανακάλυψης &amp; διερεύνησης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 υπολογιστής ως εργαλείο συνεργασία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000000"/>
                </a:solidFill>
                <a:latin typeface="Corbel"/>
              </a:rPr>
              <a:t>Γνωστικά αντικείμενα &amp; ΤΠΕ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1071720" y="1428840"/>
            <a:ext cx="7571880" cy="4928760"/>
            <a:chOff x="1071720" y="1428840"/>
            <a:chExt cx="7571880" cy="4928760"/>
          </a:xfrm>
        </p:grpSpPr>
        <p:sp>
          <p:nvSpPr>
            <p:cNvPr id="726" name="_s1181"/>
            <p:cNvSpPr/>
            <p:nvPr/>
          </p:nvSpPr>
          <p:spPr>
            <a:xfrm>
              <a:off x="2662560" y="1428840"/>
              <a:ext cx="4391280" cy="2918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_s1183"/>
            <p:cNvSpPr/>
            <p:nvPr/>
          </p:nvSpPr>
          <p:spPr>
            <a:xfrm>
              <a:off x="4252320" y="2195640"/>
              <a:ext cx="4391280" cy="2918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_s1185"/>
            <p:cNvSpPr/>
            <p:nvPr/>
          </p:nvSpPr>
          <p:spPr>
            <a:xfrm>
              <a:off x="3644280" y="3438720"/>
              <a:ext cx="4391280" cy="2918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_s1187"/>
            <p:cNvSpPr/>
            <p:nvPr/>
          </p:nvSpPr>
          <p:spPr>
            <a:xfrm>
              <a:off x="1679760" y="3438720"/>
              <a:ext cx="4391640" cy="2918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_s1189"/>
            <p:cNvSpPr/>
            <p:nvPr/>
          </p:nvSpPr>
          <p:spPr>
            <a:xfrm>
              <a:off x="1071720" y="2195640"/>
              <a:ext cx="4391280" cy="2918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9"/>
          <p:cNvGrpSpPr/>
          <p:nvPr/>
        </p:nvGrpSpPr>
        <p:grpSpPr>
          <a:xfrm>
            <a:off x="1285920" y="2492280"/>
            <a:ext cx="6365520" cy="3241800"/>
            <a:chOff x="1285920" y="2492280"/>
            <a:chExt cx="6365520" cy="3241800"/>
          </a:xfrm>
        </p:grpSpPr>
        <p:sp>
          <p:nvSpPr>
            <p:cNvPr id="732" name="Text Box 10"/>
            <p:cNvSpPr/>
            <p:nvPr/>
          </p:nvSpPr>
          <p:spPr>
            <a:xfrm>
              <a:off x="3562200" y="2492280"/>
              <a:ext cx="2085480" cy="58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Γλώσσ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11"/>
            <p:cNvSpPr/>
            <p:nvPr/>
          </p:nvSpPr>
          <p:spPr>
            <a:xfrm>
              <a:off x="1285920" y="3571920"/>
              <a:ext cx="2856960" cy="49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0000"/>
                  </a:solidFill>
                  <a:latin typeface="Times New Roman"/>
                </a:rPr>
                <a:t>Μελέτη Περιβάλλοντο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2"/>
            <p:cNvSpPr/>
            <p:nvPr/>
          </p:nvSpPr>
          <p:spPr>
            <a:xfrm>
              <a:off x="2215080" y="5286960"/>
              <a:ext cx="1698840" cy="44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Πληροφορικ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13"/>
            <p:cNvSpPr/>
            <p:nvPr/>
          </p:nvSpPr>
          <p:spPr>
            <a:xfrm>
              <a:off x="6072840" y="3571920"/>
              <a:ext cx="1578600" cy="46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0000"/>
                  </a:solidFill>
                  <a:latin typeface="Times New Roman"/>
                </a:rPr>
                <a:t>Μαθηματικ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4786920" y="5286960"/>
              <a:ext cx="264240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Δημιουργία - Έκφρασ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2060"/>
                </a:solidFill>
                <a:latin typeface="Corbel"/>
              </a:rPr>
              <a:t>Η χρήση των ΤΠΕ στα Μαθηματικά &amp; τη Μελέτη Περιβάλλοντος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71280" y="18572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Η χρήση των ΤΠΕ – μεταξύ άλλων - μπορεί να συμβάλε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κατανόηση και στην οικοδόμηση νέων εννοιών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ενίσχυση της παρατηρητικότητας και της μνήμης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κατανόηση της σχέσης ανάμεσα σε αιτία και αποτέλεσμα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ανάπτυξη της συμβολικής σκέψης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 συσχέτιση ανάμεσα στο αφηρημένο και το συγκεκριμένο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ον πειραματισμό και στη διαδικασία επίλυσης προβλημάτω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Corbel"/>
              </a:rPr>
              <a:t>Μαθηματικά &amp; Μελέτη Περιβάλλοντος: Κατηγορίες λογισμικού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περίπτωση αυτή μπορούν να χρησιμοποιηθούν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λογισμικά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rbel"/>
              </a:rPr>
              <a:t>εννοιολογικής χαρτογράφησης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concept mapping) π.χ.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dspiration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Λογισμικά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rbel"/>
              </a:rPr>
              <a:t>οπτικοποίησης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.χ.</a:t>
            </a:r>
            <a:r>
              <a:rPr b="0" lang="el-GR" sz="2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gle Earth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Λογισμικά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rbel"/>
              </a:rPr>
              <a:t>προσομοίωση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για δραστηριότητες στις φυσικές επιστήμες, κλ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Ψηφιακές εγκυκλοπαίδειες με μορφή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rbel"/>
              </a:rPr>
              <a:t>υπερμέσων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Λογισμικά επίλυσης προβλημάτων (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roblem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solv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Λογισμικά ανάπτυξης της δημιουργικότητας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160" indent="-2314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Λογισμικά «κλειστού» τύπου για την </a:t>
            </a:r>
            <a:r>
              <a:rPr b="0" lang="el-GR" sz="2000" spc="-1" strike="noStrike">
                <a:solidFill>
                  <a:srgbClr val="ff0000"/>
                </a:solidFill>
                <a:latin typeface="Corbel"/>
              </a:rPr>
              <a:t>ανάπτυξη συγκεκριμένων δεξιοτήτων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116000" y="1557360"/>
            <a:ext cx="7559640" cy="3959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Εννοιολογική χαρτογράφηση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5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Εικόνα 1" descr="kidspir2"/>
          <p:cNvPicPr/>
          <p:nvPr/>
        </p:nvPicPr>
        <p:blipFill>
          <a:blip r:embed="rId1"/>
          <a:stretch/>
        </p:blipFill>
        <p:spPr>
          <a:xfrm>
            <a:off x="468360" y="1197000"/>
            <a:ext cx="5273640" cy="4145040"/>
          </a:xfrm>
          <a:prstGeom prst="rect">
            <a:avLst/>
          </a:prstGeom>
          <a:ln w="0">
            <a:noFill/>
          </a:ln>
        </p:spPr>
      </p:pic>
      <p:pic>
        <p:nvPicPr>
          <p:cNvPr id="747" name="Εικόνα 1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5273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Οπτικοποίηση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7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375680" cy="48243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85327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6444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Προσομοίωση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Εικόνα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5275440" cy="3959280"/>
          </a:xfrm>
          <a:prstGeom prst="rect">
            <a:avLst/>
          </a:prstGeom>
          <a:ln w="0">
            <a:noFill/>
          </a:ln>
        </p:spPr>
      </p:pic>
      <p:pic>
        <p:nvPicPr>
          <p:cNvPr id="756" name="Εικόνα 4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5275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aa393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Corbel"/>
              </a:rPr>
              <a:t>Μαθηματικά &amp; Μελέτη Περιβάλλοντος: λογισμικά </a:t>
            </a: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– ρομποτικές κατασκευές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71280" y="2000160"/>
            <a:ext cx="456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υστήματα ρομποτικής – κατασκευέ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go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o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υστήματα σύνδεσης και χειρισμού με υπολογιστέ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α συστήματα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eg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dstorm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0" name="Picture 5" descr="Lego"/>
          <p:cNvPicPr/>
          <p:nvPr/>
        </p:nvPicPr>
        <p:blipFill>
          <a:blip r:embed="rId1"/>
          <a:stretch/>
        </p:blipFill>
        <p:spPr>
          <a:xfrm>
            <a:off x="5580000" y="1844640"/>
            <a:ext cx="2970360" cy="21607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mindstorms2"/>
          <p:cNvPicPr/>
          <p:nvPr/>
        </p:nvPicPr>
        <p:blipFill>
          <a:blip r:embed="rId2"/>
          <a:stretch/>
        </p:blipFill>
        <p:spPr>
          <a:xfrm>
            <a:off x="6300720" y="486900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images4"/>
          <p:cNvPicPr/>
          <p:nvPr/>
        </p:nvPicPr>
        <p:blipFill>
          <a:blip r:embed="rId3"/>
          <a:stretch/>
        </p:blipFill>
        <p:spPr>
          <a:xfrm>
            <a:off x="7740720" y="4869000"/>
            <a:ext cx="1076400" cy="9237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kit"/>
          <p:cNvPicPr/>
          <p:nvPr/>
        </p:nvPicPr>
        <p:blipFill>
          <a:blip r:embed="rId4"/>
          <a:stretch/>
        </p:blipFill>
        <p:spPr>
          <a:xfrm>
            <a:off x="5003640" y="4941720"/>
            <a:ext cx="1076400" cy="9050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9"/>
          <p:cNvSpPr/>
          <p:nvPr/>
        </p:nvSpPr>
        <p:spPr>
          <a:xfrm>
            <a:off x="0" y="165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0"/>
          <p:cNvSpPr/>
          <p:nvPr/>
        </p:nvSpPr>
        <p:spPr>
          <a:xfrm>
            <a:off x="4461840" y="2684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4442040" y="386820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Ανάπτυξη δημιουργικότητας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2314"/>
                </a:solidFill>
                <a:latin typeface="Corbel"/>
              </a:rPr>
              <a:t>Στόχος της παρουσίασης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31640" y="1412640"/>
            <a:ext cx="7240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Η θέση των </a:t>
            </a:r>
            <a:r>
              <a:rPr b="1" lang="el-GR" sz="2800" spc="-1" strike="noStrike">
                <a:solidFill>
                  <a:srgbClr val="000000"/>
                </a:solidFill>
                <a:latin typeface="Corbel"/>
              </a:rPr>
              <a:t>Τεχνολογιών της Πληροφορίας και των Επικοινωνιών 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στην προσχολική ηλικία ως εργαλείων διερευνητικής διδασκαλίας και μάθηση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Βασικά λογισμικά </a:t>
            </a:r>
            <a:r>
              <a:rPr b="1" lang="el-GR" sz="2800" spc="-1" strike="noStrike">
                <a:solidFill>
                  <a:srgbClr val="ff0000"/>
                </a:solidFill>
                <a:latin typeface="Corbel"/>
              </a:rPr>
              <a:t>διερευνητικής μάθησης 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για τις φυσικές επιστήμες, τη μελέτη περιβάλλοντος και τα μαθηματικά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Για παιδιά ηλικίας προσχολικής ηλικίας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572314"/>
                </a:solidFill>
                <a:latin typeface="Corbel"/>
              </a:rPr>
              <a:t>Ευχαριστώ πολύ !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1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5" descr="C:\Documents and Settings\macbook\Desktop\Εικόνες\PC nuls.jpg"/>
          <p:cNvPicPr/>
          <p:nvPr/>
        </p:nvPicPr>
        <p:blipFill>
          <a:blip r:embed="rId1"/>
          <a:stretch/>
        </p:blipFill>
        <p:spPr>
          <a:xfrm>
            <a:off x="1357200" y="1714680"/>
            <a:ext cx="6853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Content Placeholder 6" descr="FIBONACCI_Pag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7900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Έκφραση και Δημιουργία &amp; ΤΠΕ (1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28440" y="157176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κόπιμη κινητική συμπεριφορά στην οποία εμπλέκεται το σώμα του νηπίου και η οποία προκαλείται, οργανώνεται και ελέγχεται από ψυχικούς μηχανισμούς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Η χρήση των ΤΠΕ μπορεί να προωθήσε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ην ανάπτυξη των λεπτών χειρισμών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λεπτή κινητικότητα)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ο συντονισμό χεριού και ματιού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ην οικοδόμηση χωρικών σχέσεων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και τον προσανατολισμό στο χώρο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Έκφραση και Δημιουργία &amp; ΤΠΕ</a:t>
            </a:r>
            <a:r>
              <a:rPr b="0" lang="fr-FR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(2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46160" y="1628640"/>
            <a:ext cx="809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Όλες οι δραστηριότητες που απαιτούν χρήση ποντικιού (π.χ. λογισμικό για ζωγραφική) ή χειριστηρίου (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joystick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) για παιγνίδια, βοηθούν στην ανάπτυξη της λεπτής κινητικότητας καθώς και στο συντονισμό χεριού και ματιο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Από έρευνες φαίνεται ότι παιδιά ακόμα και δύο ετών μπορούν να χρησιμοποιήσουν το πληκτρολόγιο (ένα πλήκτρο τη φορά) με κατάλληλη καθοδήγηση και υποστήριξη από τον ενήλικα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Έκφραση και Δημιουργία &amp; ΤΠΕ (3)</a:t>
            </a: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00080" y="192888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Η αφύπνιση και η καλλιέργεια της δημιουργικότητας και της αισθητικής ευαισθησίας των νηπίων και στοχεύει στην πλήρη ανάπτυξη της προσωπικότητάς τ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Οι ΤΠΕ μπορούν να συμβάλλουν στην εξοικείωση των νηπίων με τις δυνατότητες και τους τρόπους χρήσης διαφόρων εργαλείων του εκάστοτε προγράμματος και στην ελεύθερη έκφραση, δίνοντας τη χαρά της προσωπικής δημιουργίας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Επιπλέον, μπορούν να συντελέσουν στη γνωριμία με τα είδη των λογοτεχνικών κειμένων, στη δημιουργία πρωτότυπων ιστοριών και στην επαφή των νηπίων με ελληνικά και ξένα έργα τέχνης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oter Placeholder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aa393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8721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Έκφραση και Δημιουργία </a:t>
            </a: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– </a:t>
            </a: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Κατασκευές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Η χρήση εφαρμογών ρομποτικής (όπως τα συστήματα τύπου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o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go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ή η χελώνα εδάφους τη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o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μπορούν να βοηθήσουν στην οικοδόμηση των εννοιών του χώρου (μπροστά – πίσω, δεξιά – αριστερά, κλπ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8" name="Picture 4" descr=""/>
          <p:cNvPicPr/>
          <p:nvPr/>
        </p:nvPicPr>
        <p:blipFill>
          <a:blip r:embed="rId1"/>
          <a:stretch/>
        </p:blipFill>
        <p:spPr>
          <a:xfrm>
            <a:off x="514512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Έκφραση και Δημιουργία</a:t>
            </a:r>
            <a:br>
              <a:rPr sz="3200"/>
            </a:b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Παραδείγματα Εφαρμογών</a:t>
            </a:r>
            <a:r>
              <a:rPr b="1" i="1" lang="el-GR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Corbel"/>
              </a:rPr>
              <a:t>Λογισμικά για δραστηριότητες ζωγραφικής και ανάπτυξη δημιουργικότητας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αραδείγματα λογισμικών ζωγραφική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Children (http://www.cs.uu.nl/people/markov/kids/draw.html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Μαγική Δημιουργία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gic Artist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)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ww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ney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KidPad (http://www.cs.umd.edu/hcil/kiddesign/kidpad.shtml)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KidPix (www.kidpix.com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uxpai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Ψηφιακές εγκυκλοπαίδειες: αναζήτηση πληροφοριών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572314"/>
                </a:solidFill>
                <a:latin typeface="Corbel"/>
              </a:rPr>
              <a:t>Διαθεματικές δραστηριότητες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28800" y="1447560"/>
            <a:ext cx="800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Οι ΤΠΕ μπορούν να αξιοποιηθούν σε μια σειρά από διαθεματικές δραστηριότητες που αφορούν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τη </a:t>
            </a:r>
            <a:r>
              <a:rPr b="1" i="1" lang="el-GR" sz="2800" spc="-1" strike="noStrike">
                <a:solidFill>
                  <a:srgbClr val="000000"/>
                </a:solidFill>
                <a:latin typeface="Corbel"/>
              </a:rPr>
              <a:t>Διαπολιτισμική εκπαίδευση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την</a:t>
            </a:r>
            <a:r>
              <a:rPr b="1" i="1" lang="el-GR" sz="2800" spc="-1" strike="noStrike">
                <a:solidFill>
                  <a:srgbClr val="000000"/>
                </a:solidFill>
                <a:latin typeface="Corbel"/>
              </a:rPr>
              <a:t> Επίλυση Προβλήματος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orbel"/>
              </a:rPr>
              <a:t>Την </a:t>
            </a:r>
            <a:r>
              <a:rPr b="1" i="1" lang="el-GR" sz="2800" spc="-1" strike="noStrike">
                <a:solidFill>
                  <a:srgbClr val="000000"/>
                </a:solidFill>
                <a:latin typeface="Corbel"/>
              </a:rPr>
              <a:t>Περιβαλλοντική εκπαίδευση.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Εκπαιδευτικά παιγνίδια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Υπάρχουν χιλιάδες ηλεκτρονικά παιγνίδια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Μια ενδιαφέρουσα κατηγορία αφορά στα εκπαιδευτικά παιγνίδια (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edutainment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credible Mach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o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Zoombi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2314"/>
                </a:solidFill>
                <a:latin typeface="Corbel"/>
              </a:rPr>
              <a:t>Το 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l-GR" sz="4000" spc="-1" strike="noStrike">
                <a:solidFill>
                  <a:srgbClr val="572314"/>
                </a:solidFill>
                <a:latin typeface="Corbel"/>
              </a:rPr>
              <a:t>Σχολείο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”</a:t>
            </a:r>
            <a:r>
              <a:rPr b="0" lang="el-GR" sz="4000" spc="-1" strike="noStrike">
                <a:solidFill>
                  <a:srgbClr val="572314"/>
                </a:solidFill>
                <a:latin typeface="Corbel"/>
              </a:rPr>
              <a:t> του 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l-GR" sz="4000" spc="-1" strike="noStrike">
                <a:solidFill>
                  <a:srgbClr val="572314"/>
                </a:solidFill>
                <a:latin typeface="Corbel"/>
              </a:rPr>
              <a:t>Μέλλοντος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2913120" cy="228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C:\Documents and Settings\macbook\Desktop\Εικόνες\Images\child puzzle.jpg"/>
          <p:cNvPicPr/>
          <p:nvPr/>
        </p:nvPicPr>
        <p:blipFill>
          <a:blip r:embed="rId2"/>
          <a:stretch/>
        </p:blipFill>
        <p:spPr>
          <a:xfrm>
            <a:off x="7072200" y="228600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C:\Documents and Settings\macbook\Desktop\Εικόνες\Images\children puzzle.jpg"/>
          <p:cNvPicPr/>
          <p:nvPr/>
        </p:nvPicPr>
        <p:blipFill>
          <a:blip r:embed="rId3"/>
          <a:stretch/>
        </p:blipFill>
        <p:spPr>
          <a:xfrm>
            <a:off x="5929200" y="2571840"/>
            <a:ext cx="1143000" cy="107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C:\Documents and Settings\macbook\Desktop\Εικόνες\Images\Collaboration.jpg"/>
          <p:cNvPicPr/>
          <p:nvPr/>
        </p:nvPicPr>
        <p:blipFill>
          <a:blip r:embed="rId4"/>
          <a:stretch/>
        </p:blipFill>
        <p:spPr>
          <a:xfrm>
            <a:off x="6357960" y="1714680"/>
            <a:ext cx="1181160" cy="952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0" descr="C:\Documents and Settings\macbook\Desktop\Εικόνες\Lego.jpg"/>
          <p:cNvPicPr/>
          <p:nvPr/>
        </p:nvPicPr>
        <p:blipFill>
          <a:blip r:embed="rId5"/>
          <a:stretch/>
        </p:blipFill>
        <p:spPr>
          <a:xfrm>
            <a:off x="7143840" y="3429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1" descr="C:\Documents and Settings\macbook\Desktop\Εικόνες\teacher student.jpeg"/>
          <p:cNvPicPr/>
          <p:nvPr/>
        </p:nvPicPr>
        <p:blipFill>
          <a:blip r:embed="rId6"/>
          <a:stretch/>
        </p:blipFill>
        <p:spPr>
          <a:xfrm>
            <a:off x="5929200" y="3714840"/>
            <a:ext cx="1285920" cy="11192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11"/>
          <p:cNvSpPr/>
          <p:nvPr/>
        </p:nvSpPr>
        <p:spPr>
          <a:xfrm>
            <a:off x="1014480" y="428616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έα «Υπηρεσία» εκπαίδευ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χνολογική καινοτομία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2"/>
          <p:cNvSpPr/>
          <p:nvPr/>
        </p:nvSpPr>
        <p:spPr>
          <a:xfrm>
            <a:off x="4973400" y="500076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λλαγές στις διαδικασίες της μάθη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ιδαγωγική καινοτομί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013760" y="5000760"/>
            <a:ext cx="37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μφαση στον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εξοπλισμό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μφαση στο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ψηφιακό περιεχόμεν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4"/>
          <p:cNvSpPr/>
          <p:nvPr/>
        </p:nvSpPr>
        <p:spPr>
          <a:xfrm>
            <a:off x="5727240" y="5715000"/>
            <a:ext cx="29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μφαση στις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διδακτικ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και μαθησιακές πρακτικέ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900" spc="-1" strike="noStrike">
                <a:solidFill>
                  <a:srgbClr val="572314"/>
                </a:solidFill>
                <a:latin typeface="Corbel"/>
              </a:rPr>
              <a:t>Για το νηπιαγωγείο: βασικό ερώτημα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971280" y="169992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Έχουν θέση οι υπολογιστές στην προσχολική ηλικία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Εάν ναι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ώς τεκμηριώνεται ψυχοπαιδαγωγικά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οιες είναι οι δυνατές εφαρμογές των ΤΠ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ώς μπορούν να ενταχθούν στο πρόγραμμα σπουδώ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Κάτω από ποιες προϋποθέσεις μπορούν να προσφέρουν κάτι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rbel"/>
              </a:rPr>
              <a:t>ποιοτικά διαφορετικό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ην εκπαίδευση και την αγωγή των μικρών παιδιών;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itle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58672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b5a788"/>
                </a:solidFill>
                <a:latin typeface="Corbel"/>
              </a:rPr>
              <a:t>Υπολογιστές στην Προσχολική Ηλικί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766000" y="645804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387-1620-4B20-8754-60F6BE9FB6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  <a:ea typeface="Tahoma"/>
              </a:rPr>
              <a:t>Τι ξέρουμε από την έρευνα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Τρία θεμελιώδη ευρήματα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65720" indent="-40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ι υπολογιστές παρέχουν εκπαιδευτικά περιβάλλοντα στα οποία οι μαθητές μπορούν να μαθαίνουν μέσα από την πράξη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65720" indent="-40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ι υπολογιστές προσφέρουν κίνητρα μάθησης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65720" indent="-40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Οι υπολογιστές βοηθούν τους μαθητές να αντιλαμβάνονται δύσκολες ως προς την κατανόηση έννοιε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orbel"/>
              </a:rPr>
              <a:t>Στο πλαίσιο αυτό φαίνεται ότι οι ΤΠΕ αποκτούν σταδιακά θέση στο Νηπιαγωγείο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65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Το τεχνολογικό τοπίο σήμερα και αύριο …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76" name="Content Placeholder 5" descr="pdas.jpg"/>
          <p:cNvPicPr/>
          <p:nvPr/>
        </p:nvPicPr>
        <p:blipFill>
          <a:blip r:embed="rId1"/>
          <a:stretch/>
        </p:blipFill>
        <p:spPr>
          <a:xfrm>
            <a:off x="7481880" y="4143240"/>
            <a:ext cx="1662120" cy="1714680"/>
          </a:xfrm>
          <a:prstGeom prst="rect">
            <a:avLst/>
          </a:prstGeom>
          <a:ln w="0">
            <a:noFill/>
          </a:ln>
        </p:spPr>
      </p:pic>
      <p:sp>
        <p:nvSpPr>
          <p:cNvPr id="677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16"/>
          <p:cNvGrpSpPr/>
          <p:nvPr/>
        </p:nvGrpSpPr>
        <p:grpSpPr>
          <a:xfrm>
            <a:off x="1143000" y="1500120"/>
            <a:ext cx="1749240" cy="2083320"/>
            <a:chOff x="1143000" y="1500120"/>
            <a:chExt cx="1749240" cy="2083320"/>
          </a:xfrm>
        </p:grpSpPr>
        <p:pic>
          <p:nvPicPr>
            <p:cNvPr id="679" name="Picture 7" descr="olpc3.jpg"/>
            <p:cNvPicPr/>
            <p:nvPr/>
          </p:nvPicPr>
          <p:blipFill>
            <a:blip r:embed="rId2"/>
            <a:stretch/>
          </p:blipFill>
          <p:spPr>
            <a:xfrm>
              <a:off x="1143000" y="1500120"/>
              <a:ext cx="171432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11"/>
            <p:cNvSpPr/>
            <p:nvPr/>
          </p:nvSpPr>
          <p:spPr>
            <a:xfrm>
              <a:off x="1148040" y="32151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Εντός σχολείο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17"/>
          <p:cNvGrpSpPr/>
          <p:nvPr/>
        </p:nvGrpSpPr>
        <p:grpSpPr>
          <a:xfrm>
            <a:off x="3786120" y="1643040"/>
            <a:ext cx="1785960" cy="2012040"/>
            <a:chOff x="3786120" y="1643040"/>
            <a:chExt cx="1785960" cy="2012040"/>
          </a:xfrm>
        </p:grpSpPr>
        <p:pic>
          <p:nvPicPr>
            <p:cNvPr id="682" name="Picture 6" descr="olpc1.jpg"/>
            <p:cNvPicPr/>
            <p:nvPr/>
          </p:nvPicPr>
          <p:blipFill>
            <a:blip r:embed="rId3"/>
            <a:stretch/>
          </p:blipFill>
          <p:spPr>
            <a:xfrm>
              <a:off x="3786120" y="1643040"/>
              <a:ext cx="1785960" cy="15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12"/>
            <p:cNvSpPr/>
            <p:nvPr/>
          </p:nvSpPr>
          <p:spPr>
            <a:xfrm>
              <a:off x="3791160" y="328680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Εκτός σχολείο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18"/>
          <p:cNvGrpSpPr/>
          <p:nvPr/>
        </p:nvGrpSpPr>
        <p:grpSpPr>
          <a:xfrm>
            <a:off x="6500880" y="1428840"/>
            <a:ext cx="1814400" cy="2226240"/>
            <a:chOff x="6500880" y="1428840"/>
            <a:chExt cx="1814400" cy="2226240"/>
          </a:xfrm>
        </p:grpSpPr>
        <p:pic>
          <p:nvPicPr>
            <p:cNvPr id="685" name="Picture 8" descr="olpc2.jpg"/>
            <p:cNvPicPr/>
            <p:nvPr/>
          </p:nvPicPr>
          <p:blipFill>
            <a:blip r:embed="rId4"/>
            <a:stretch/>
          </p:blipFill>
          <p:spPr>
            <a:xfrm>
              <a:off x="6500880" y="1428840"/>
              <a:ext cx="1814400" cy="17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Box 13"/>
            <p:cNvSpPr/>
            <p:nvPr/>
          </p:nvSpPr>
          <p:spPr>
            <a:xfrm>
              <a:off x="6576120" y="328680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Με το δάσκαλ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9"/>
          <p:cNvGrpSpPr/>
          <p:nvPr/>
        </p:nvGrpSpPr>
        <p:grpSpPr>
          <a:xfrm>
            <a:off x="1010520" y="4143240"/>
            <a:ext cx="2582640" cy="2226240"/>
            <a:chOff x="1010520" y="4143240"/>
            <a:chExt cx="2582640" cy="2226240"/>
          </a:xfrm>
        </p:grpSpPr>
        <p:pic>
          <p:nvPicPr>
            <p:cNvPr id="688" name="Picture 9" descr="olpc4.jpg"/>
            <p:cNvPicPr/>
            <p:nvPr/>
          </p:nvPicPr>
          <p:blipFill>
            <a:blip r:embed="rId5"/>
            <a:stretch/>
          </p:blipFill>
          <p:spPr>
            <a:xfrm>
              <a:off x="1142640" y="4143240"/>
              <a:ext cx="2072160" cy="17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TextBox 14"/>
            <p:cNvSpPr/>
            <p:nvPr/>
          </p:nvSpPr>
          <p:spPr>
            <a:xfrm>
              <a:off x="1010520" y="6001200"/>
              <a:ext cx="258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ουλεύοντας με άλλου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0"/>
          <p:cNvGrpSpPr/>
          <p:nvPr/>
        </p:nvGrpSpPr>
        <p:grpSpPr>
          <a:xfrm>
            <a:off x="3578760" y="4143240"/>
            <a:ext cx="2302200" cy="2357280"/>
            <a:chOff x="3578760" y="4143240"/>
            <a:chExt cx="2302200" cy="2357280"/>
          </a:xfrm>
        </p:grpSpPr>
        <p:pic>
          <p:nvPicPr>
            <p:cNvPr id="691" name="Picture 10" descr="olpc5.jpg"/>
            <p:cNvPicPr/>
            <p:nvPr/>
          </p:nvPicPr>
          <p:blipFill>
            <a:blip r:embed="rId6"/>
            <a:stretch/>
          </p:blipFill>
          <p:spPr>
            <a:xfrm>
              <a:off x="3786120" y="4143240"/>
              <a:ext cx="18007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Box 15"/>
            <p:cNvSpPr/>
            <p:nvPr/>
          </p:nvSpPr>
          <p:spPr>
            <a:xfrm>
              <a:off x="3578760" y="5857920"/>
              <a:ext cx="230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Χρησιμοποιώντα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καινοτόμα λογισμικά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Box 21"/>
          <p:cNvSpPr/>
          <p:nvPr/>
        </p:nvSpPr>
        <p:spPr>
          <a:xfrm>
            <a:off x="6436800" y="59292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ποικίλα εργαλε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2" descr="PCs.jpg"/>
          <p:cNvPicPr/>
          <p:nvPr/>
        </p:nvPicPr>
        <p:blipFill>
          <a:blip r:embed="rId7"/>
          <a:stretch/>
        </p:blipFill>
        <p:spPr>
          <a:xfrm>
            <a:off x="6429240" y="4357800"/>
            <a:ext cx="1152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72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Το εκπαιδευτικό τοπίο σήμερα και αύριο …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Content Placeholder 5" descr="Teaching2.jpg"/>
          <p:cNvPicPr/>
          <p:nvPr/>
        </p:nvPicPr>
        <p:blipFill>
          <a:blip r:embed="rId1"/>
          <a:stretch/>
        </p:blipFill>
        <p:spPr>
          <a:xfrm>
            <a:off x="3714840" y="1071720"/>
            <a:ext cx="2036520" cy="135720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6" descr="Collaboration.jpg"/>
          <p:cNvPicPr/>
          <p:nvPr/>
        </p:nvPicPr>
        <p:blipFill>
          <a:blip r:embed="rId2"/>
          <a:stretch/>
        </p:blipFill>
        <p:spPr>
          <a:xfrm>
            <a:off x="6715080" y="1428840"/>
            <a:ext cx="1860480" cy="1500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Teaching3.jpg"/>
          <p:cNvPicPr/>
          <p:nvPr/>
        </p:nvPicPr>
        <p:blipFill>
          <a:blip r:embed="rId3"/>
          <a:stretch/>
        </p:blipFill>
        <p:spPr>
          <a:xfrm>
            <a:off x="2786040" y="3000240"/>
            <a:ext cx="1928880" cy="1446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" descr="Teaching4.jpg"/>
          <p:cNvPicPr/>
          <p:nvPr/>
        </p:nvPicPr>
        <p:blipFill>
          <a:blip r:embed="rId4"/>
          <a:stretch/>
        </p:blipFill>
        <p:spPr>
          <a:xfrm>
            <a:off x="500040" y="16430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"/>
          <p:cNvPicPr/>
          <p:nvPr/>
        </p:nvPicPr>
        <p:blipFill>
          <a:blip r:embed="rId5"/>
          <a:stretch/>
        </p:blipFill>
        <p:spPr>
          <a:xfrm>
            <a:off x="6786720" y="3929040"/>
            <a:ext cx="1995480" cy="1500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6"/>
          <a:stretch/>
        </p:blipFill>
        <p:spPr>
          <a:xfrm>
            <a:off x="4929120" y="414324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" descr=""/>
          <p:cNvPicPr/>
          <p:nvPr/>
        </p:nvPicPr>
        <p:blipFill>
          <a:blip r:embed="rId7"/>
          <a:stretch/>
        </p:blipFill>
        <p:spPr>
          <a:xfrm>
            <a:off x="642960" y="42861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13"/>
          <p:cNvSpPr/>
          <p:nvPr/>
        </p:nvSpPr>
        <p:spPr>
          <a:xfrm>
            <a:off x="294480" y="34290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θετική διδασκαλ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2993400" y="45720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οστήριξ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6371640" y="30002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εργασία με ομότιμ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300960" y="600084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ιραματική προσέγγι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7"/>
          <p:cNvSpPr/>
          <p:nvPr/>
        </p:nvSpPr>
        <p:spPr>
          <a:xfrm>
            <a:off x="7221600" y="550080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ιγνίδ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8"/>
          <p:cNvSpPr/>
          <p:nvPr/>
        </p:nvSpPr>
        <p:spPr>
          <a:xfrm>
            <a:off x="3370680" y="250020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εργασία με μεγαλύτερ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9"/>
          <p:cNvSpPr/>
          <p:nvPr/>
        </p:nvSpPr>
        <p:spPr>
          <a:xfrm>
            <a:off x="4894560" y="58294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τομική εργασ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  <a:ea typeface="Tahoma"/>
              </a:rPr>
              <a:t>Οι ΤΠΕ στην προσχολική και την πρώτη σχολική ηλικία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71280" y="1714680"/>
            <a:ext cx="7777080" cy="45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Corbel"/>
                <a:ea typeface="Tahoma"/>
              </a:rPr>
              <a:t>γνωστικό αντικείμενο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 (μαθαίνω για τους υπολογιστές) και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orbel"/>
                <a:ea typeface="Tahoma"/>
              </a:rPr>
              <a:t>μέσο ψυχαγωγίας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 (διασκεδάζω με τους υπολογιστές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Corbel"/>
                <a:ea typeface="Tahoma"/>
              </a:rPr>
              <a:t>εκπαιδευτικό μέσο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  <a:ea typeface="Tahoma"/>
              </a:rPr>
              <a:t> (διδάσκω με τη βοήθεια υπολογιστών) για τον εκπαιδευτικ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0000"/>
                </a:solidFill>
                <a:uFillTx/>
                <a:latin typeface="Corbel"/>
                <a:ea typeface="Tahoma"/>
              </a:rPr>
              <a:t>γνωστικό</a:t>
            </a:r>
            <a:r>
              <a:rPr b="0" lang="el-GR" sz="2800" spc="-1" strike="noStrike">
                <a:solidFill>
                  <a:srgbClr val="ff0000"/>
                </a:solidFill>
                <a:latin typeface="Corbel"/>
                <a:ea typeface="Tahoma"/>
              </a:rPr>
              <a:t> </a:t>
            </a:r>
            <a:r>
              <a:rPr b="0" lang="el-GR" sz="2800" spc="-1" strike="noStrike" u="sng">
                <a:solidFill>
                  <a:srgbClr val="ff0000"/>
                </a:solidFill>
                <a:uFillTx/>
                <a:latin typeface="Corbel"/>
                <a:ea typeface="Tahoma"/>
              </a:rPr>
              <a:t>εργαλείο</a:t>
            </a:r>
            <a:r>
              <a:rPr b="0" lang="el-GR" sz="2800" spc="-1" strike="noStrike">
                <a:solidFill>
                  <a:srgbClr val="ff0000"/>
                </a:solidFill>
                <a:latin typeface="Corbel"/>
                <a:ea typeface="Tahoma"/>
              </a:rPr>
              <a:t> (μαθαίνω ενισχύοντας και επεκτείνοντας τις γνωστικές μου ικανότητες) για το μαθητή</a:t>
            </a:r>
            <a:r>
              <a:rPr b="0" lang="el-GR" sz="2800" spc="-1" strike="noStrike" u="sng">
                <a:solidFill>
                  <a:srgbClr val="ff0000"/>
                </a:solidFill>
                <a:uFillTx/>
                <a:latin typeface="Corbel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  <a:ea typeface="Tahoma"/>
              </a:rPr>
              <a:t>Μπορεί συνεπώς να υποστηρίξει διάφορες μορφές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Corbel"/>
                <a:ea typeface="Tahom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  <a:ea typeface="Tahoma"/>
              </a:rPr>
              <a:t> και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Corbel"/>
                <a:ea typeface="Tahoma"/>
              </a:rPr>
              <a:t>μάθησης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  <a:ea typeface="Tahoma"/>
              </a:rPr>
              <a:t> κατά την εκπαίδευση των μικρών παιδιώ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900" spc="-1" strike="noStrike">
                <a:solidFill>
                  <a:srgbClr val="572314"/>
                </a:solidFill>
                <a:latin typeface="Corbel"/>
              </a:rPr>
              <a:t>Το ΔΕΠΠΣ για τις ΤΠΕ στην προσχολική εκπαίδευση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258920" y="1773000"/>
            <a:ext cx="74167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ο Διαθεματικό Ενιαίο Πλαίσιο Προγράμματος Σπουδών (ΔΕΠΠΣ) για το Νηπιαγωγείο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κοπό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i="1" lang="el-GR" sz="2000" spc="-1" strike="noStrike">
                <a:solidFill>
                  <a:srgbClr val="000000"/>
                </a:solidFill>
                <a:latin typeface="Corbel"/>
              </a:rPr>
              <a:t>Σκοπός της εισαγωγής της Πληροφορικής στο Νηπιαγωγείο και στο Δημοτικό Σχολείο είναι να εξοικειωθούν οι μαθητές και οι μαθήτριες με τις </a:t>
            </a:r>
            <a:r>
              <a:rPr b="0" i="1" lang="el-GR" sz="2000" spc="-1" strike="noStrike">
                <a:solidFill>
                  <a:srgbClr val="ff0000"/>
                </a:solidFill>
                <a:latin typeface="Corbel"/>
              </a:rPr>
              <a:t>βασικές λειτουργίες του υπολογιστή </a:t>
            </a:r>
            <a:r>
              <a:rPr b="0" i="1" lang="el-GR" sz="2000" spc="-1" strike="noStrike">
                <a:solidFill>
                  <a:srgbClr val="000000"/>
                </a:solidFill>
                <a:latin typeface="Corbel"/>
              </a:rPr>
              <a:t>και να έλθουν σε μια πρώτη επαφή με διάφορες χρήσεις του ως </a:t>
            </a:r>
            <a:r>
              <a:rPr b="0" i="1" lang="el-GR" sz="2000" spc="-1" strike="noStrike">
                <a:solidFill>
                  <a:srgbClr val="ff0000"/>
                </a:solidFill>
                <a:latin typeface="Corbel"/>
              </a:rPr>
              <a:t>εποπτικού μέσου διδασκαλίας</a:t>
            </a:r>
            <a:r>
              <a:rPr b="0" i="1" lang="el-GR" sz="2000" spc="-1" strike="noStrike">
                <a:solidFill>
                  <a:srgbClr val="000000"/>
                </a:solidFill>
                <a:latin typeface="Corbel"/>
              </a:rPr>
              <a:t>, ως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Corbel"/>
              </a:rPr>
              <a:t>γνωστικού - διερευνητικού εργαλείου</a:t>
            </a:r>
            <a:r>
              <a:rPr b="1" i="1" lang="el-GR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Corbel"/>
              </a:rPr>
              <a:t>και ως </a:t>
            </a:r>
            <a:r>
              <a:rPr b="0" i="1" lang="el-GR" sz="2000" spc="-1" strike="noStrike">
                <a:solidFill>
                  <a:srgbClr val="ff0000"/>
                </a:solidFill>
                <a:latin typeface="Corbel"/>
              </a:rPr>
              <a:t>εργαλείου επικοινωνίας και αναζήτησης πληροφοριών </a:t>
            </a:r>
            <a:r>
              <a:rPr b="0" i="1" lang="el-GR" sz="2000" spc="-1" strike="noStrike">
                <a:solidFill>
                  <a:srgbClr val="000000"/>
                </a:solidFill>
                <a:latin typeface="Corbel"/>
              </a:rPr>
              <a:t>στο πλαίσιο των καθημερινών σχολικών τους δραστηριοτήτων με τη χρήση κατάλληλου λογισμικού και ιδιαίτερα ανοικτού λογισμικού διερευνητικής μάθησης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.»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Gill Sans MT"/>
              </a:rPr>
              <a:t>Fibonacci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0:13:53Z</dcterms:created>
  <dc:creator>Vasilis Komis</dc:creator>
  <dc:description/>
  <dc:language>en-US</dc:language>
  <cp:lastModifiedBy>nitse</cp:lastModifiedBy>
  <dcterms:modified xsi:type="dcterms:W3CDTF">2010-06-18T08:21:59Z</dcterms:modified>
  <cp:revision>229</cp:revision>
  <dc:subject/>
  <dc:title>Φάσεις και Μοντέλα ένταξης των Τεχνολογιών της Πληροφορίας και των Επικοινωνιών στην Εκπαίδευση</dc:title>
</cp:coreProperties>
</file>