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5B4F-DA44-4497-949F-CBA2C46284A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4795-C98D-49AA-83AF-23456267F78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0712-A673-4847-950D-141DFB62CDE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3E5D-9992-4853-AA5A-DE9B952FE4C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4883-D11E-4110-B97F-2D9E53C0214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718F-94B1-4560-9551-A2137E81D11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683C-3522-461D-AB38-92B349C1AF3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A448-68A4-4BA5-995B-F7E8B7C868A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B7DC-0BC4-4B09-A8C3-4659C66063F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2DF8-247D-42A0-88BD-FE47CF333E8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A659-6CFC-4F03-9F2B-B2A825CD956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204D-FB5E-42B7-9D7E-E38B649B9A1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47CB-D99F-4871-9793-B511F025A3A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2F1A-BEE2-4DDF-967E-8E4141BCACC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AA98-6624-4F30-A783-333E5384F36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8E69-0038-44F6-9940-13425715D56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3C9-C2E7-4980-BF53-99340B31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C50-B0E1-4F13-B516-02AA0AF1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6D9-C1A8-4431-AECF-98F138FA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871-F7D4-470B-A2B5-D53E2AB5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414-7679-4755-8CE0-F1CC329E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140-B467-4BC9-AF98-E2A388EE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22C-8016-4912-B118-DB221ED3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420-D5F8-4424-A047-F0F1C04B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23A-F086-481D-8207-521B934F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782-6EF5-4F38-A08A-5AF8FD9A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C09-5710-4F88-917F-B368478C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491-E63F-43E6-B03E-E1F4C5A3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D5CC-F65B-4E7A-8A07-0471392DE27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1337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ράσεις του προγράμματος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onacci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ε τοπικό επίπεδ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1625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ργαστήριο Διδακτικής Θετικών Επιστημώ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ΕΕΑΠΗ, Πανεπιστήμιο Πατ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OGOTYPO_UPATRAS"/>
          <p:cNvPicPr/>
          <p:nvPr/>
        </p:nvPicPr>
        <p:blipFill>
          <a:blip r:embed="rId1"/>
          <a:stretch/>
        </p:blipFill>
        <p:spPr>
          <a:xfrm>
            <a:off x="4114800" y="47242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logo cmjn2"/>
          <p:cNvPicPr/>
          <p:nvPr/>
        </p:nvPicPr>
        <p:blipFill>
          <a:blip r:embed="rId2"/>
          <a:stretch/>
        </p:blipFill>
        <p:spPr>
          <a:xfrm>
            <a:off x="3352680" y="152280"/>
            <a:ext cx="2160720" cy="1801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3276720" y="304920"/>
            <a:ext cx="237492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2504880" y="6247080"/>
            <a:ext cx="38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 πρόγραμμα χρηματοδοτείται από το «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P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7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της Ευρωπαϊκής Ένω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U_emblem_colour"/>
          <p:cNvPicPr/>
          <p:nvPr/>
        </p:nvPicPr>
        <p:blipFill>
          <a:blip r:embed="rId3"/>
          <a:stretch/>
        </p:blipFill>
        <p:spPr>
          <a:xfrm>
            <a:off x="250920" y="6093000"/>
            <a:ext cx="863640" cy="58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FP7_logo_color"/>
          <p:cNvPicPr/>
          <p:nvPr/>
        </p:nvPicPr>
        <p:blipFill>
          <a:blip r:embed="rId4"/>
          <a:stretch/>
        </p:blipFill>
        <p:spPr>
          <a:xfrm>
            <a:off x="8101080" y="6093000"/>
            <a:ext cx="720720" cy="5857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7"/>
          <p:cNvSpPr/>
          <p:nvPr/>
        </p:nvSpPr>
        <p:spPr>
          <a:xfrm>
            <a:off x="250920" y="6093000"/>
            <a:ext cx="86508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8077320" y="6095880"/>
            <a:ext cx="865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μινάρ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νηπιαγωγοί του δικτύου μπορού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παρακολουθήσουν τα σεμινάρια όλων των θεματικών ενοτή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ούν επίσ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διαλέξουν εξ αρχής την ή τις θεματικές ενότητες που τις ενδιαφέρουν και να παρακολουθήσουν μόνο το ή τα αντίστοιχα σεμινάρι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α χρειαστεί να υλοποιήσουν στις τάξεις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υλάχιστον 2 θέματ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ό την ίδια ή από διαφορετικές θεματικές ενότητ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ακριβή περιεχόμενα των θεματικών ενοτήτ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α ανακοινωθούν από τον Οκτώβριο του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1447920" y="9144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μινάρ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24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σεμινάρι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α βασίζονται στην ενεργό συμμετοχή των νηπιαγωγ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ιο συγκεκριμένα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α υπάρχει μια αρχική εισήγηση από εμά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στη συνέχει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νηπιαγωγοί θα ασχολούνται οι ίδιες με την υλοποίηση των δραστηριοτήτων στο «Εργαστήριο ΔΘΕ» του Τμήματο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τσι ώστε να προκύψει μία εκδοχή των δραστηριοτήτων επηρεασμένη από τη δική τους ευρύτερη εμπειρία                                        από την καθημερινή εκπαιδευτική πράξ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1447920" y="9144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αρακολούθηση και στήριξη της 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υλοποίησης στα νηπιαγωγεία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ύμφωνα με το πρόγραμμα, εμείς παρακολουθούμε τη διεξαγωγή και υποστηρίζουμε τις νηπιαγωγούς όταν συναντούν προβλήματ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σφαλώς όμως τον κύριο ρόλο τον έχουν οι ίδι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άρχει η δυνατότητα παρακολούθησης από τις «Ομάδες Αυτομόρφωσης Νηπιαγωγών» της ΟΜΕ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υ θα απαρτίζονται από νηπιαγωγούς του δικτύο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θα λειτουργούν με εβδομαδιαίες συναντήσεις τους όσο θα γίνεται η υλοποίηση των δραστηριοτήτων μιας θεματικής ενότητ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 αυτό το σχήμα θα επιχειρήσουμε να έχουμ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ία ουσιαστική «διαμορφωτική αξιολόγηση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 κριτικό αναστοχασμό των νηπιαγωγών &amp; προτάσεις βελτίωση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υ θα καταγράφονται από τις νηπιαγωγούς στα «ημερολόγιά»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1295280" y="99072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Ημερίδα Παρουσίασης  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«Γιορτή Θετικών Επιστημών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νηπιαγωγοί του δικτύου θα παρουσιάσουν τη δουλειά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μία «ημερίδα - γιορτή» ανοιχτή σε όλη την εκπαιδευτική κοιν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ημερίδα θα γίνει τέλος Μαΐου ή αρχές Ιουνίου 2011 με στόχ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ν παρουσίαση της τελικής αξιολόγησης των δραστηριοτήτων κάθε θεματικής ενότητας και των προτάσεων για βελτίωσή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 δημιουργία του δικτύου της επόμενης χρονιά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1447920" y="12193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Ξεκινάμ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2280" y="1599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ας ευχαριστούμε πολ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ια τη σημερινή σας παρουσία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ας περιμένουμ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να δουλέψουμε παρέ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ιατί «θεωρία» και «πράξη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ίναι καλύτερα να πηγαίνουν μαζ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447920" y="10666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Ξεκινάμ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Από κινητό 033"/>
          <p:cNvPicPr/>
          <p:nvPr/>
        </p:nvPicPr>
        <p:blipFill>
          <a:blip r:embed="rId1"/>
          <a:stretch/>
        </p:blipFill>
        <p:spPr>
          <a:xfrm>
            <a:off x="457200" y="990720"/>
            <a:ext cx="4172040" cy="556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Από κινητό 134"/>
          <p:cNvPicPr/>
          <p:nvPr/>
        </p:nvPicPr>
        <p:blipFill>
          <a:blip r:embed="rId2"/>
          <a:stretch/>
        </p:blipFill>
        <p:spPr>
          <a:xfrm>
            <a:off x="5181480" y="1371600"/>
            <a:ext cx="3533760" cy="4724280"/>
          </a:xfrm>
          <a:prstGeom prst="rect">
            <a:avLst/>
          </a:prstGeom>
          <a:ln w="0">
            <a:noFill/>
          </a:ln>
        </p:spPr>
      </p:pic>
      <p:sp>
        <p:nvSpPr>
          <p:cNvPr id="129" name="Line 6"/>
          <p:cNvSpPr/>
          <p:nvPr/>
        </p:nvSpPr>
        <p:spPr>
          <a:xfrm>
            <a:off x="1447920" y="6858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ράσεις του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onacci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» στην Πάτ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ημιουργία τοπικού δικτύου συνεργαζόμενων νηπιαγωγώ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2010-2011: 25-30 από την περιοχή Αχαΐας και όμορους νομούς της Περιφέρειας της Δυτικής Ελλάδ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κπαίδευση των νηπιαγωγών του δικτύ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μινάρια ανά θεματική εν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άπτυξη εκπαιδευτικών δραστηριοτήτων ανά θεματική ενότητα και δημιουργία αντίστοιχων «πακέτων» υλοποίησης με τα απαραίτητα υλ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οστήριξη των νηπιαγωγών στη φάση της υλοποί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ριτική θεώρηση της υλοποίησης από τις ίδιες τις νηπιαγωγού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ειτουργία μας ως «Κέντρο Αναφοράς» το 2012-2013 : εκπαίδευση εκπροσώπων νέων «Κέντρων Εκπαίδευση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61" name="Line 7"/>
          <p:cNvSpPr/>
          <p:nvPr/>
        </p:nvSpPr>
        <p:spPr>
          <a:xfrm>
            <a:off x="1447920" y="8380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5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παίδευση των νηπιαγωγών του δικτύο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προτεινόμενες από τα μέλη του εργαστηρίου δραστηριότητες</a:t>
            </a:r>
            <a:r>
              <a:rPr b="0" lang="el-GR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ντάσσονται σε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τρεις γενικές θεματικές ενότητε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Θεματική εν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ιολογία  - Μουσε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Θεματική εν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Φυσική - Αστρονομ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Θεματική εν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αθηματικά - Νέες τεχνολογί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1066680" y="9144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Θεματικές ενότη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Θεματική ενότητ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ιολογία - Μουσε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μμετέχουν ο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. Ζόγκζα - Μ. Εργαζάκη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. Κολιόπουλος - Ει. Γκούσκ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εριλαμβάνονται τα θέματ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«Κύκλοι ζωής φυτώ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«Αποικοδόμηση, ανακύκλωση, σκουπίδι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«Επίσκεψη σε Μουσείο Ζωολογίας» (Μελέτη / ταξινόμηση ζώω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447920" y="9144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609480" y="1295280"/>
            <a:ext cx="2971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Θεματικές ενότη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Θεματική ενότητ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Φυσική - Αστρονομί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μμετέχουν ο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. Ραβάν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. Κολιόπουλος, Ει. Γκούσκ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. Καμπεζ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εριλαμβάνονται τα θέματ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«Μαγνήτες» (η ανακάλυψη των ελκτικών και απωστικών δυνάμεω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«Ενέργεια - Ανανεώσιμες Πηγές - Περιβάλλο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«Εναλλαγή Μέρας - Νύχτα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«Πώς φαίνεται η Γη από ψηλά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95280" y="76212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0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09480" y="990720"/>
            <a:ext cx="2971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Θεματικές ενότη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Θεματική ενότητα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αθηματικά - Νέες τεχνολογίε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μμετέχουν ο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. Ζαχάρο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. Κόμης, Ν. Τσέλιος, Α. Μισιρλ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εριλαμβάνονται τα θέματ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οχεία (αντίληψη της ιδέας της περιεκτικότητα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ρήσεις μήκους (επινόηση τρόπων μέτρηση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ξιοποίηση των νέων τεχνολογιών                                                       στη διδασκαλία &amp; μάθηση των παραπάνω θεμά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1523880" y="838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838080" y="1143000"/>
            <a:ext cx="40388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wave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» - «Τα σημάδια της άνοιξη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2189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έρα από τις παραπάνω θεματικές ενότητες,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νηπιαγωγοί του τοπικού δικτύου θα έχουν τη δυνατότητα να εμπλέξουν τις τάξεις τους στο λεγόμενο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wav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ι είναι όμως αυτ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 παρατηρήσουμε την Ευρώπη από το διάστημα κατά τη διάρκεια της άνοιξης θα δούμε ένα «πράσινο κύμα» (βλ.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 wav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») να κινείται από το νότο προς το βορρά διατρέχοντας όλη την ήπειρ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αναγνώριση της εκπαιδευτικής αξίας που μπορεί να έχει η παρακολούθηση αυτού του εντυπωσιακού φαινομένου                                          σε επίπεδο γνώσης αλλά και σε επίπεδο περιβαλλοντικής ευαισθητοποίηση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δήγησε στη δημιουργία του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wav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νός ομαδικού «πειράματος» με πρωταγωνιστές παιδιά &amp; εκπαιδευτικούς που καταγράφουν «τα σημάδια της άνοιξης» στον τόπο του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371600" y="8380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wave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» - «Τα σημάδια της άνοιξη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έσα από το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wav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», οι εκπαιδευτικοί μπορούν να δώσουν στους μικρούς μαθητές τους την ευκαιρί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κατανοήσουν καλύτερα τον τρόπο με τον οποίο οι αλλαγές στον καιρό καθρεφτίζονται στις αλλαγές που παρατηρούνται στη φύσ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ενισχύσουν τη γνώση τους για τους ζωντανούς οργανισμούς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αναπτύξουν σημαντικές δεξιότητές τους όπως αυτές τ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ς παρατήρησης, της κατηγοριοποίησης, της μέτρησης, της δημιουργικής έκφρασης  και της επικοινωνία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πλέον, μπορούν να προσφέρουν στα παιδι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 χαρά της επαφής με τη φύση και τη χαρά της συνεργασία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αμορφώνοντάς τα σε περίεργους «ντεντέκτιβς»                                      που αναζητούν συνεργατικά σε αυτήν τα «σημάδια της άνοιξη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1295280" y="91440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Φάσεις υλοποίησης του προγράμ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φάση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κπαίδευση νηπιαγωγών με σεμινάρι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βλέποντα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γενικό σεμινάριο για τις αρχές τη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«ΔιΔιΜαΘΕ»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-δύο σεμινάρια για κάθε Θεματική εν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φάση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φαρμογή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«ΔιΔιΜαΘΕ»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στις σχολικές τάξ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ά το σεμινάριο κάθε θεματικής ενότητας ακολουθεί η υλοποίηση των αντίστοιχων εκπαιδευτικών δραστηριοτήτων στην τάξ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ν πραγματικότητα οι φάσεις της εκπαίδευσης &amp; της υλοποίησης δραστηριοτήτων στην τάξη θα εναλλάσσονται διαδοχ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l-GR" sz="2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φάση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μερίδα παρουσίασης - «Γιορτή των Θετικών Επιστημώ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1371600" y="8380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logo cmjn2"/>
          <p:cNvPicPr/>
          <p:nvPr/>
        </p:nvPicPr>
        <p:blipFill>
          <a:blip r:embed="rId1"/>
          <a:stretch/>
        </p:blipFill>
        <p:spPr>
          <a:xfrm>
            <a:off x="7924680" y="152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7924680" y="152280"/>
            <a:ext cx="10432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so</dc:creator>
  <dc:description/>
  <dc:language>en-US</dc:language>
  <cp:lastModifiedBy>nitse</cp:lastModifiedBy>
  <dcterms:modified xsi:type="dcterms:W3CDTF">2010-06-18T08:23:12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