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3822F-52D2-4AAA-98FC-DD7485B15D82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239D1-9B94-42AF-ACF3-3AB0402EA85A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7406F-14CD-4CFC-AD45-785CE359B48A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964C3-2D8F-4D42-986B-47671B296E98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5A059-82D6-4F59-990F-0488F903E7C9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DA741-C007-4CED-81D9-BA6E0E056A90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AF177-8DDB-4A25-A631-C4043465568C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19B0C-88E2-4064-9AE3-991956079A48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0D2D3-671C-44B0-AB33-17120668C5A8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D98B8-A64E-4E54-A867-351E8447D492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B8FF6-6404-435E-97A4-F26A10B4B9BE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2041A-53D9-4189-AA1B-CE01EBF408AA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5EE51-FC09-401D-A5ED-DE7E3B9AD71D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FA527-A07F-4E89-B6E4-C3B8F5EF015D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1001-2367-4DB3-8AC4-68B1AB1EF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028E-2BE7-4D83-84F0-C4F378A1A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0579-9B01-4236-B01F-7964A7D58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9738-C073-42EB-B509-A9779EEFA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15DE-A640-4CEF-A29F-D706FCF85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7C75-132B-4FF2-B4F2-FB20791C9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D58A-0785-4E43-8097-82EC1FF73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C91A-F03F-4DD9-83D8-FBA1DB87A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C4E8-DF67-434F-8D6E-55BA7B165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02C2-7A6E-493B-A906-1892FAD2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8B85-AADC-42F1-9FAB-3DA359B1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0D48-8B5E-4FD1-81A5-257842D94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36D0E-50DD-4E5E-A6D4-3FA94F78581C}" type="slidenum">
              <a:rPr b="0" lang="el-G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2636640"/>
            <a:ext cx="7772400" cy="122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Arial"/>
              </a:rPr>
              <a:t>Το πρόγραμμα </a:t>
            </a:r>
            <a:br>
              <a:rPr sz="3600"/>
            </a:br>
            <a:r>
              <a:rPr b="1" lang="el-GR" sz="3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bonacci</a:t>
            </a:r>
            <a:r>
              <a:rPr b="1" lang="el-GR" sz="36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4076280"/>
            <a:ext cx="640872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Προώθηση της διερευνητικής διδασκαλίας και μάθησης στο πεδίο των θετικών επιστημών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logo cmjn2"/>
          <p:cNvPicPr/>
          <p:nvPr/>
        </p:nvPicPr>
        <p:blipFill>
          <a:blip r:embed="rId1"/>
          <a:stretch/>
        </p:blipFill>
        <p:spPr>
          <a:xfrm>
            <a:off x="3348000" y="404640"/>
            <a:ext cx="2160720" cy="1802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EU_emblem_colour"/>
          <p:cNvPicPr/>
          <p:nvPr/>
        </p:nvPicPr>
        <p:blipFill>
          <a:blip r:embed="rId2"/>
          <a:stretch/>
        </p:blipFill>
        <p:spPr>
          <a:xfrm>
            <a:off x="250920" y="6093000"/>
            <a:ext cx="863640" cy="587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FP7_logo_color"/>
          <p:cNvPicPr/>
          <p:nvPr/>
        </p:nvPicPr>
        <p:blipFill>
          <a:blip r:embed="rId3"/>
          <a:stretch/>
        </p:blipFill>
        <p:spPr>
          <a:xfrm>
            <a:off x="8101080" y="6093000"/>
            <a:ext cx="720720" cy="5857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3"/>
          <p:cNvSpPr/>
          <p:nvPr/>
        </p:nvSpPr>
        <p:spPr>
          <a:xfrm>
            <a:off x="1979640" y="5805360"/>
            <a:ext cx="49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2479680" y="6164640"/>
            <a:ext cx="386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i="1" lang="el-GR" sz="1400" spc="-1" strike="noStrike">
                <a:solidFill>
                  <a:srgbClr val="000000"/>
                </a:solidFill>
                <a:latin typeface="Arial"/>
              </a:rPr>
              <a:t> πρόγραμμα χρηματοδοτείται από το «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P</a:t>
            </a:r>
            <a:r>
              <a:rPr b="0" i="1" lang="el-GR" sz="1400" spc="-1" strike="noStrike">
                <a:solidFill>
                  <a:srgbClr val="000000"/>
                </a:solidFill>
                <a:latin typeface="Arial"/>
              </a:rPr>
              <a:t>7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Arial"/>
              </a:rPr>
              <a:t>της Ευρωπαϊκής Ένωση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5"/>
          <p:cNvSpPr/>
          <p:nvPr/>
        </p:nvSpPr>
        <p:spPr>
          <a:xfrm>
            <a:off x="3276720" y="620640"/>
            <a:ext cx="2374920" cy="151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6"/>
          <p:cNvSpPr/>
          <p:nvPr/>
        </p:nvSpPr>
        <p:spPr>
          <a:xfrm>
            <a:off x="250920" y="6093000"/>
            <a:ext cx="865080" cy="57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7"/>
          <p:cNvSpPr/>
          <p:nvPr/>
        </p:nvSpPr>
        <p:spPr>
          <a:xfrm>
            <a:off x="8028000" y="6093000"/>
            <a:ext cx="936720" cy="57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ασικές αρχές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για τη διερευνητική </a:t>
            </a:r>
            <a:br>
              <a:rPr sz="2400"/>
            </a:b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διδασκαλία και μάθηση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79280" y="1484280"/>
            <a:ext cx="87854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Ανάπτυξη μιας «κουλτούρας διερεύνησης προβλημάτων» στην τάξ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κεντρικός άξονας της διδασκαλίας                                                                            ένα «πρόβλημα» προς διερεύνηση από τα ίδια τα παιδι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ροώθηση του επιστημονικού τρόπου σκέψη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ο μαθητής διευκολύνεται από τον εκπαιδευτικό                                                           να αναζητά απαντήσεις στα ερωτήματά του ως «μικρός επιστήμονας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ροώθηση της αρχής «μαθαίνεις από τα λάθη σου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αξιοποίηση και όχι προσπάθεια αποφυγής των λαθών των παιδιώ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Οικοδόμηση της βασικής γνώση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η διερεύνηση δεν είναι αυτοσκοπός, αλλά                                                   ένα χρήσιμο εργαλείο οικοδόμησης νέας γνώση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4" descr="logo cmjn2"/>
          <p:cNvPicPr/>
          <p:nvPr/>
        </p:nvPicPr>
        <p:blipFill>
          <a:blip r:embed="rId1"/>
          <a:stretch/>
        </p:blipFill>
        <p:spPr>
          <a:xfrm>
            <a:off x="7812000" y="189000"/>
            <a:ext cx="1008000" cy="8398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5"/>
          <p:cNvSpPr/>
          <p:nvPr/>
        </p:nvSpPr>
        <p:spPr>
          <a:xfrm>
            <a:off x="7812000" y="189000"/>
            <a:ext cx="1042920" cy="76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6"/>
          <p:cNvSpPr/>
          <p:nvPr/>
        </p:nvSpPr>
        <p:spPr>
          <a:xfrm>
            <a:off x="1476360" y="1268280"/>
            <a:ext cx="590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ασικές αρχές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για τη διερευνητική </a:t>
            </a:r>
            <a:br>
              <a:rPr sz="2400"/>
            </a:b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διδασκαλία και μάθηση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95280" y="1628280"/>
            <a:ext cx="8424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υνειδητοποίηση των ορίων κάθε γνωστικής περιοχής                                     και παράλληλα αξιοποίηση της ιδέας της διαθεματικότητα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ροώθηση της ίσης συμμετοχής αγοριών και κοριτσιών                                              κατά την εφαρμογή της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«ΔιΔιΜαΘΕ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ροώθηση της ουσιαστικής συνεργασίας μεταξύ των μαθητών                       μέσα από εκπαιδευτικές δραστηριότητες συνεργατικού χαρακτήρ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4" descr="logo cmjn2"/>
          <p:cNvPicPr/>
          <p:nvPr/>
        </p:nvPicPr>
        <p:blipFill>
          <a:blip r:embed="rId1"/>
          <a:stretch/>
        </p:blipFill>
        <p:spPr>
          <a:xfrm>
            <a:off x="7812000" y="189000"/>
            <a:ext cx="1008000" cy="83988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5"/>
          <p:cNvSpPr/>
          <p:nvPr/>
        </p:nvSpPr>
        <p:spPr>
          <a:xfrm>
            <a:off x="7812000" y="189000"/>
            <a:ext cx="1042920" cy="76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6"/>
          <p:cNvSpPr/>
          <p:nvPr/>
        </p:nvSpPr>
        <p:spPr>
          <a:xfrm>
            <a:off x="1476360" y="1268280"/>
            <a:ext cx="590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Ποιος είναι ο δικός μας ρόλος </a:t>
            </a:r>
            <a:br>
              <a:rPr sz="2400"/>
            </a:b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ως «Κέντρο Εκπαίδευσης 1»;</a:t>
            </a:r>
            <a:r>
              <a:rPr b="1" lang="el-GR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8360" y="1557360"/>
            <a:ext cx="8229600" cy="49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Να αναπτύξουμε δραστηριότητες για το νηπιαγωγείο                                   με ή χωρίς τη χρήση υπολογιστή                                                               που να προέρχονται από τις θετικές επιστήμε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Να εκπαιδεύσουμε και να στηρίξουμε το τοπικό δίκτυο                             που θα αριθμεί 25-30 με νηπιαγωγούς την 1</a:t>
            </a:r>
            <a:r>
              <a:rPr b="0" lang="el-GR" sz="2000" spc="-1" strike="noStrike" baseline="30000">
                <a:solidFill>
                  <a:srgbClr val="000000"/>
                </a:solidFill>
                <a:latin typeface="Arial"/>
              </a:rPr>
              <a:t>η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χρονιά                             στην εφαρμογή των δραστηριοτήτων στην τάξη του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Να τους παρέχουμε τα απαραίτητα υλικά                                                            τα οποία θα παραμείνουν στην κατοχή του σχολείου                            μετά την ολοκλήρωση του προγράμματο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4" descr="logo cmjn2"/>
          <p:cNvPicPr/>
          <p:nvPr/>
        </p:nvPicPr>
        <p:blipFill>
          <a:blip r:embed="rId1"/>
          <a:stretch/>
        </p:blipFill>
        <p:spPr>
          <a:xfrm>
            <a:off x="7812000" y="189000"/>
            <a:ext cx="1008000" cy="83988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7"/>
          <p:cNvSpPr/>
          <p:nvPr/>
        </p:nvSpPr>
        <p:spPr>
          <a:xfrm>
            <a:off x="7812000" y="189000"/>
            <a:ext cx="1042920" cy="76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8"/>
          <p:cNvSpPr/>
          <p:nvPr/>
        </p:nvSpPr>
        <p:spPr>
          <a:xfrm>
            <a:off x="1547640" y="1268280"/>
            <a:ext cx="590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Ποιος είναι ο δικός μας ρόλος </a:t>
            </a:r>
            <a:br>
              <a:rPr sz="2400"/>
            </a:b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ως «Κέντρο Εκπαίδευσης 1»;</a:t>
            </a:r>
            <a:r>
              <a:rPr b="1" lang="el-GR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79280" y="1773360"/>
            <a:ext cx="8640720" cy="49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ροϋπόθεση για όλα αυτά είναι ασφαλώ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η δική σας ενεργή συμμετοχή                                                      σε όλες τις φάσεις του προγράμματο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ία συμμετοχή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ου φιλοδοξούμε να έχει ουσιαστικά οφέλη                                               για όλους τους συμμετέχοντε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4" descr="logo cmjn2"/>
          <p:cNvPicPr/>
          <p:nvPr/>
        </p:nvPicPr>
        <p:blipFill>
          <a:blip r:embed="rId1"/>
          <a:stretch/>
        </p:blipFill>
        <p:spPr>
          <a:xfrm>
            <a:off x="7812000" y="189000"/>
            <a:ext cx="1008000" cy="83988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5"/>
          <p:cNvSpPr/>
          <p:nvPr/>
        </p:nvSpPr>
        <p:spPr>
          <a:xfrm>
            <a:off x="7812000" y="189000"/>
            <a:ext cx="1042920" cy="76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6"/>
          <p:cNvSpPr/>
          <p:nvPr/>
        </p:nvSpPr>
        <p:spPr>
          <a:xfrm>
            <a:off x="1547640" y="1268280"/>
            <a:ext cx="590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Τι είναι το πρόγραμμα 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bonacci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569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Το «Fibonacci» είναι ένα ευρωπαϊκό πρόγραμμα με στόχο την προώθηση της διερευνητικής διδασκαλίας &amp; μάθηση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στο πεδίο των φυσικών επιστημών και των μαθηματικών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σε όλες τις βαθμίδες της εκπαίδευση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σε συνδυασμό και με τη χρήση της τεχνολογία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Η επίτευξη αυτού του στόχου προϋποθέτε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τη δημιουργία &amp; την εξάπλωση ενός πανευρωπαϊκού δικτύου εκπαιδευτικών όλων των βαθμίδω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οι οποίοι θα δουλέψουν αξιοποιώντας την έμφυτη περιέργεια των παιδιών για το φυσικό, το βιολογικό &amp; το λογικομαθηματικό κόσμο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logo cmjn2"/>
          <p:cNvPicPr/>
          <p:nvPr/>
        </p:nvPicPr>
        <p:blipFill>
          <a:blip r:embed="rId1"/>
          <a:stretch/>
        </p:blipFill>
        <p:spPr>
          <a:xfrm>
            <a:off x="7812000" y="189000"/>
            <a:ext cx="1008000" cy="839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5"/>
          <p:cNvSpPr/>
          <p:nvPr/>
        </p:nvSpPr>
        <p:spPr>
          <a:xfrm>
            <a:off x="7812000" y="189000"/>
            <a:ext cx="1042920" cy="76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7"/>
          <p:cNvSpPr/>
          <p:nvPr/>
        </p:nvSpPr>
        <p:spPr>
          <a:xfrm>
            <a:off x="1403280" y="1052640"/>
            <a:ext cx="590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Γιατί τιτλοφορείται έτσ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8000" y="1197000"/>
            <a:ext cx="9036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Λεονάρδος της Πίζας ή πιο γνωστός ως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bonacci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ilius Bonacci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ήταν ένας ταλαντούχος Ιταλός μαθηματικός του μεσαίων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Στο βιβλίο του «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ber Abaci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έθεσε και έλυσε ένα πρόβλημα για τη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ανάπτυξη ενός υποθετικού πληθυσμού κουνελιών σε ιδανικές συνθήκε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Σύμφωνα με το πρόβλημα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Ένα νεαρό ζευγάρι κουνελιών τοποθετούνται σε έναν αγρ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Τα κουνέλια μπορούν να ζευγαρώνουν στην ηλικία του ενός μήνα: στο τέλος  του 2ου μήνα το θηλυκό θα έχει φέρει στον κόσμο άλλο ένα ζευγάρι κουνελιώ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Τα κουνέλια μας δεν πεθαίνουν ποτέ και ένα θηλυκό παράγει πάντα ένα νέο ζευγάρι (ένα αρσενικό, ένα θηλυκό) κάθε μήνα από το 2</a:t>
            </a:r>
            <a:r>
              <a:rPr b="0" lang="el-GR" sz="1800" spc="-1" strike="noStrike" baseline="30000">
                <a:solidFill>
                  <a:srgbClr val="000000"/>
                </a:solidFill>
                <a:latin typeface="Arial"/>
              </a:rPr>
              <a:t>ο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μήνα και έπειτ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όσα ζευγάρια κουνελιών θα υπάρχουν σε έναν χρόνο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logo cmjn2"/>
          <p:cNvPicPr/>
          <p:nvPr/>
        </p:nvPicPr>
        <p:blipFill>
          <a:blip r:embed="rId1"/>
          <a:stretch/>
        </p:blipFill>
        <p:spPr>
          <a:xfrm>
            <a:off x="7812000" y="189000"/>
            <a:ext cx="1008000" cy="83988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6"/>
          <p:cNvSpPr/>
          <p:nvPr/>
        </p:nvSpPr>
        <p:spPr>
          <a:xfrm>
            <a:off x="7812000" y="189000"/>
            <a:ext cx="1042920" cy="76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7"/>
          <p:cNvSpPr/>
          <p:nvPr/>
        </p:nvSpPr>
        <p:spPr>
          <a:xfrm>
            <a:off x="1403280" y="836640"/>
            <a:ext cx="590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Γιατί τιτλοφορείται έτσ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712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Η λύση του προβλήματος ήταν μια αλληλουχία αριθμών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ου αργότερα έγιναν γνωστοί ως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«Αριθμοί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bonacci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Ο αριθμός των ζευγαριών που υπάρχουν κάθε μήνα είνα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ίναι το άθροισμα των δυο προηγούμενων αριθμών των ζευγαριών στην αλληλουχία ξεκινώντας από το 0, δηλ. είνα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0000"/>
                </a:solidFill>
                <a:latin typeface="Arial"/>
              </a:rPr>
              <a:t>0,1,1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,2,3,5,8,13,21…….. και στο τέλος του χρόνου 23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το τέλος του 1</a:t>
            </a:r>
            <a:r>
              <a:rPr b="0" lang="el-GR" sz="1800" spc="-1" strike="noStrike" baseline="30000">
                <a:solidFill>
                  <a:srgbClr val="000000"/>
                </a:solidFill>
                <a:latin typeface="Arial"/>
              </a:rPr>
              <a:t>ου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μήνα υπάρχει ένα ζευγάρι που ζευγαρώνει                                                  αλλά εξακολουθεί να είναι </a:t>
            </a:r>
            <a:r>
              <a:rPr b="1" lang="el-GR" sz="1800" spc="-1" strike="noStrike">
                <a:solidFill>
                  <a:srgbClr val="c0504d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το τέλος του 2</a:t>
            </a:r>
            <a:r>
              <a:rPr b="0" lang="el-GR" sz="1800" spc="-1" strike="noStrike" baseline="30000">
                <a:solidFill>
                  <a:srgbClr val="000000"/>
                </a:solidFill>
                <a:latin typeface="Arial"/>
              </a:rPr>
              <a:t>ου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μήνα υπάρχει ένα ακόμη ζευγάρι: </a:t>
            </a:r>
            <a:r>
              <a:rPr b="1" lang="el-GR" sz="1800" spc="-1" strike="noStrike">
                <a:solidFill>
                  <a:srgbClr val="c0504d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το τέλος του 3</a:t>
            </a:r>
            <a:r>
              <a:rPr b="0" lang="el-GR" sz="1800" spc="-1" strike="noStrike" baseline="30000">
                <a:solidFill>
                  <a:srgbClr val="000000"/>
                </a:solidFill>
                <a:latin typeface="Arial"/>
              </a:rPr>
              <a:t>ου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μήνα, το 1</a:t>
            </a:r>
            <a:r>
              <a:rPr b="0" lang="el-GR" sz="1800" spc="-1" strike="noStrike" baseline="30000">
                <a:solidFill>
                  <a:srgbClr val="000000"/>
                </a:solidFill>
                <a:latin typeface="Arial"/>
              </a:rPr>
              <a:t>ο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ζευγάρι παράγει ένα ακόμη,                                                        αλλά και το 2</a:t>
            </a:r>
            <a:r>
              <a:rPr b="0" lang="el-GR" sz="1800" spc="-1" strike="noStrike" baseline="30000">
                <a:solidFill>
                  <a:srgbClr val="000000"/>
                </a:solidFill>
                <a:latin typeface="Arial"/>
              </a:rPr>
              <a:t>ο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ζευγάρι παράγει ένα, οπότε γίνονται </a:t>
            </a:r>
            <a:r>
              <a:rPr b="1" lang="el-GR" sz="1800" spc="-1" strike="noStrike">
                <a:solidFill>
                  <a:srgbClr val="c0504d"/>
                </a:solidFill>
                <a:latin typeface="Arial"/>
              </a:rPr>
              <a:t>3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κ.ο.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Line 6"/>
          <p:cNvSpPr/>
          <p:nvPr/>
        </p:nvSpPr>
        <p:spPr>
          <a:xfrm>
            <a:off x="1476360" y="907920"/>
            <a:ext cx="590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logo cmjn2"/>
          <p:cNvPicPr/>
          <p:nvPr/>
        </p:nvPicPr>
        <p:blipFill>
          <a:blip r:embed="rId1"/>
          <a:stretch/>
        </p:blipFill>
        <p:spPr>
          <a:xfrm>
            <a:off x="7812000" y="189000"/>
            <a:ext cx="1008000" cy="8398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8"/>
          <p:cNvSpPr/>
          <p:nvPr/>
        </p:nvSpPr>
        <p:spPr>
          <a:xfrm>
            <a:off x="7812000" y="189000"/>
            <a:ext cx="1042920" cy="76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Γιατί τιτλοφορείται έτσ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4247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Η επιλογή του ονόματος του εμπνευστή αυτής της αλληλουχίας αριθμών ως τίτλου του προγράμματος είναι ενδεικτική του επιδιωκόμενου στόχο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ροώθηση της διερευνητικής διδασκαλίας &amp; μάθησης                                             μέσα από τη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δημιουργία &amp; μέγιστη δυνατή εξάπλωση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ενός δικτύου συνεργαζόμενων εκπαιδευτικών σε όλη την Ευρώπ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Το πρόγραμμα ξεκινά μ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12 «Κέντρα Αναφοράς»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C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«Κέντρα Εκπαίδευσης 1»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C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«Κέντρα Εκπαίδευσης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»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C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Line 6"/>
          <p:cNvSpPr/>
          <p:nvPr/>
        </p:nvSpPr>
        <p:spPr>
          <a:xfrm>
            <a:off x="1476360" y="836640"/>
            <a:ext cx="590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logo cmjn2"/>
          <p:cNvPicPr/>
          <p:nvPr/>
        </p:nvPicPr>
        <p:blipFill>
          <a:blip r:embed="rId1"/>
          <a:stretch/>
        </p:blipFill>
        <p:spPr>
          <a:xfrm>
            <a:off x="7812000" y="189000"/>
            <a:ext cx="1008000" cy="83988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8"/>
          <p:cNvSpPr/>
          <p:nvPr/>
        </p:nvSpPr>
        <p:spPr>
          <a:xfrm>
            <a:off x="7812000" y="189000"/>
            <a:ext cx="1042920" cy="76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Γιατί τιτλοφορείται έτσ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50560" y="980640"/>
            <a:ext cx="8893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Τα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«Κέντρα Αναφοράς»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C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ίναι πανεπιστημιακά ιδρύματα ή ερευνητικά ινστιτούτα                               με σημαντική εμπειρία στην εκπαίδευση των εκπαιδευτικών στις Θ.Ε.                                                                                                  μέσα από τη συμμετοχή τους σε αντίστοιχα εθνικά προγράμματ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Έτσι, αναλαμβάνουν να υποστηρίξουν και να καθοδηγήσουν                              τα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«Κέντρα Εκπαίδευσης»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(«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1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» &amp; «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2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»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ώστε στη συνέχεια να λειτουργήσουν και αυτά ως «Κέντρα Αναφοράς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                          για νέα πλέον «Κέντρα Εκπαίδευσης» με νέους εκπαιδευτικού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Συνεπώς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τα «Κέντρα Αναφοράς», τα «Κέντρα Εκπαίδευσης» &amp; οι συνεργαζόμενοι εκπαιδευτικοί που θα εφαρμόζουν στις τάξεις τους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Μεθόδους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ι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ρευνητικής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ι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ασκαλίας και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Μά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θησης στις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τικές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ιστήμες 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- «ΔιΔιΜαΘΕ»</a:t>
            </a:r>
            <a:r>
              <a:rPr b="0" lang="el-GR" sz="2000" spc="-1" strike="noStrike">
                <a:solidFill>
                  <a:srgbClr val="0000ff"/>
                </a:solidFill>
                <a:latin typeface="Arial"/>
                <a:ea typeface="Arial"/>
              </a:rPr>
              <a:t>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Inquiry Based Science &amp; Mathematics Education</a:t>
            </a:r>
            <a:r>
              <a:rPr b="0" lang="el-GR" sz="2000" spc="-1" strike="noStrike">
                <a:solidFill>
                  <a:srgbClr val="0000ff"/>
                </a:solidFill>
                <a:latin typeface="Arial"/>
                <a:ea typeface="Arial"/>
              </a:rPr>
              <a:t> -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IBSME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) σε συνδυασμό και με τη χρήση της τεχνολογία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αναμένεται να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«πολλαπλασιάζονται»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με τρόπο που θυμίζει τους «Αριθμού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bonacci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»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Line 4"/>
          <p:cNvSpPr/>
          <p:nvPr/>
        </p:nvSpPr>
        <p:spPr>
          <a:xfrm>
            <a:off x="1476360" y="836640"/>
            <a:ext cx="590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logo cmjn2"/>
          <p:cNvPicPr/>
          <p:nvPr/>
        </p:nvPicPr>
        <p:blipFill>
          <a:blip r:embed="rId1"/>
          <a:stretch/>
        </p:blipFill>
        <p:spPr>
          <a:xfrm>
            <a:off x="7812000" y="189000"/>
            <a:ext cx="1008000" cy="83988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6"/>
          <p:cNvSpPr/>
          <p:nvPr/>
        </p:nvSpPr>
        <p:spPr>
          <a:xfrm>
            <a:off x="7812000" y="189000"/>
            <a:ext cx="1042920" cy="76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Partners_map"/>
          <p:cNvPicPr/>
          <p:nvPr/>
        </p:nvPicPr>
        <p:blipFill>
          <a:blip r:embed="rId1"/>
          <a:stretch/>
        </p:blipFill>
        <p:spPr>
          <a:xfrm>
            <a:off x="1332000" y="0"/>
            <a:ext cx="6885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l-GR" sz="2400" spc="-1" strike="noStrike">
                <a:solidFill>
                  <a:srgbClr val="000000"/>
                </a:solidFill>
                <a:latin typeface="Calibri"/>
              </a:rPr>
              <a:t>Βασικ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οί άξονες του προγράμματο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79280" y="1197000"/>
            <a:ext cx="8715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Οι βασικοί άξονες του προγράμματος είναι τρεις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40000"/>
              </a:lnSpc>
              <a:spcBef>
                <a:spcPts val="499"/>
              </a:spcBef>
              <a:buClr>
                <a:srgbClr val="ff99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e6af26"/>
                </a:solidFill>
                <a:latin typeface="Arial"/>
                <a:ea typeface="Arial"/>
              </a:rPr>
              <a:t>Εφαρμογή «ΔιΔιΜαΘΕ»</a:t>
            </a:r>
            <a:r>
              <a:rPr b="0" lang="el-GR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- σε όλες τις βαθμίδες της εκπαίδευση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40000"/>
              </a:lnSpc>
              <a:spcBef>
                <a:spcPts val="499"/>
              </a:spcBef>
              <a:buClr>
                <a:srgbClr val="33cc33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cc33"/>
                </a:solidFill>
                <a:latin typeface="Arial"/>
                <a:ea typeface="Arial"/>
              </a:rPr>
              <a:t>Στρατηγική «</a:t>
            </a:r>
            <a:r>
              <a:rPr b="1" lang="en-US" sz="2000" spc="-1" strike="noStrike">
                <a:solidFill>
                  <a:srgbClr val="33cc33"/>
                </a:solidFill>
                <a:latin typeface="Arial"/>
                <a:ea typeface="Arial"/>
              </a:rPr>
              <a:t>Twinning</a:t>
            </a:r>
            <a:r>
              <a:rPr b="1" lang="el-GR" sz="2000" spc="-1" strike="noStrike">
                <a:solidFill>
                  <a:srgbClr val="33cc33"/>
                </a:solidFill>
                <a:latin typeface="Arial"/>
                <a:ea typeface="Arial"/>
              </a:rPr>
              <a:t>»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- συνεργασία των «Κέντρων Αναφοράς» με τα «Κέντρα Εκπαίδευσης» για την υποστήριξη των εκπαιδευτικών στην εφαρμογή της «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ιΔιΜαΘΕ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40000"/>
              </a:lnSpc>
              <a:spcBef>
                <a:spcPts val="499"/>
              </a:spcBef>
              <a:buClr>
                <a:srgbClr val="0000ff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ff"/>
                </a:solidFill>
                <a:latin typeface="Arial"/>
                <a:ea typeface="Arial"/>
              </a:rPr>
              <a:t>Τοπική πρωτοβουλία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- συμμετοχή της τοπικής κοινότητας                                                                για την ενίσχυση της βιωσιμότητας του προγράμματο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4" descr="logo cmjn2"/>
          <p:cNvPicPr/>
          <p:nvPr/>
        </p:nvPicPr>
        <p:blipFill>
          <a:blip r:embed="rId1"/>
          <a:stretch/>
        </p:blipFill>
        <p:spPr>
          <a:xfrm>
            <a:off x="7812000" y="189000"/>
            <a:ext cx="1008000" cy="8398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7"/>
          <p:cNvSpPr/>
          <p:nvPr/>
        </p:nvSpPr>
        <p:spPr>
          <a:xfrm>
            <a:off x="7812000" y="189000"/>
            <a:ext cx="1042920" cy="76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8"/>
          <p:cNvSpPr/>
          <p:nvPr/>
        </p:nvSpPr>
        <p:spPr>
          <a:xfrm>
            <a:off x="1547640" y="907920"/>
            <a:ext cx="590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971640" y="2060640"/>
            <a:ext cx="295272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0"/>
          <p:cNvSpPr/>
          <p:nvPr/>
        </p:nvSpPr>
        <p:spPr>
          <a:xfrm>
            <a:off x="971640" y="3357720"/>
            <a:ext cx="295272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971640" y="5445000"/>
            <a:ext cx="280836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ασικές αρχές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για τη διερευνητική </a:t>
            </a:r>
            <a:br>
              <a:rPr sz="2400"/>
            </a:b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διδασκαλία και μάθηση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79280" y="1557360"/>
            <a:ext cx="8964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Οι βασικές αρχές</a:t>
            </a:r>
            <a:r>
              <a:rPr b="0" lang="el-GR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του προγράμματο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ροσδιορίζουν επακριβώς                                                                                την προτεινόμενη προσέγγιση της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«ΔιΔιΜαΘΕ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ίναι κοινέ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για την εκπαίδευση όλων των εκπαιδευτικών του ευρωπαϊκού δικτύο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αράλληλα όμως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ίναι δυνατόν να προσαρμοσθούν                                                          ανάλογα με τις τοπικές ανάγκες και τα εθνικά αναλυτικά προγράμματ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4" descr="logo cmjn2"/>
          <p:cNvPicPr/>
          <p:nvPr/>
        </p:nvPicPr>
        <p:blipFill>
          <a:blip r:embed="rId1"/>
          <a:stretch/>
        </p:blipFill>
        <p:spPr>
          <a:xfrm>
            <a:off x="7812000" y="189000"/>
            <a:ext cx="1008000" cy="8398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7"/>
          <p:cNvSpPr/>
          <p:nvPr/>
        </p:nvSpPr>
        <p:spPr>
          <a:xfrm>
            <a:off x="7812000" y="189000"/>
            <a:ext cx="1042920" cy="76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8"/>
          <p:cNvSpPr/>
          <p:nvPr/>
        </p:nvSpPr>
        <p:spPr>
          <a:xfrm>
            <a:off x="1476360" y="1268280"/>
            <a:ext cx="590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1T10:58:31Z</dcterms:created>
  <dc:creator>vaso</dc:creator>
  <dc:description/>
  <dc:language>en-US</dc:language>
  <cp:lastModifiedBy>nitse</cp:lastModifiedBy>
  <dcterms:modified xsi:type="dcterms:W3CDTF">2010-06-18T08:22:28Z</dcterms:modified>
  <cp:revision>114</cp:revision>
  <dc:subject/>
  <dc:title>Διαφάνεια 1</dc:title>
</cp:coreProperties>
</file>